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7FD9-6EEE-44D3-B412-44DF4A981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EF51-B857-478C-947E-E4BE89757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7B42-3F5A-4F94-91C9-35BF33E96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121E-B760-452C-97AD-705456B5D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8F5C-5EA7-456E-9D82-1E8C57480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3344-FF00-4A8D-BB88-4E5326E4E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533B-9384-440B-BF1A-A9C055992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EFF7-EECD-4665-A416-324E28246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2CA6-0E89-4FFC-9E42-0BB989EB0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DC77-40F4-4931-88A4-84BEA7153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DB7E-5F00-44D7-986A-3DCA8197D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ED37-02C1-43BD-AF2B-0C49A5494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2376-0599-4FC8-9F63-B42CD7E68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1640-4E57-424B-B3AF-5E6E41F97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CEFE-F966-4819-BB38-1CDF50C11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83F9-5835-44D0-9979-413854B80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6295-49F6-4875-805F-253801AB0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766C-BF84-4917-8B10-5B2BC1E57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5FD0-1E1B-45C8-BEC6-896B65B58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0C1C-5228-444E-A973-061C38D55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CE43-EDE5-46FC-93FD-81502849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B6AB-A348-410F-8E1A-A2A4056D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0BCD-F855-4C16-9A2E-C9854787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C1E4-D9F9-4EA8-8300-99B2224A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F94-77E2-4381-91F9-45C61844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A589-EC32-4370-8ADE-1C1FC43A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DC28-6D53-41E3-BB1A-E6F00E9B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B1B1-505C-4DF3-9056-5C83CA3C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0117-7C8B-4F97-B933-BB70BA67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371F-7F81-4008-ACBE-3BFDC0ED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3381-6B1B-4B39-ACFE-B382F972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12A-C37B-46EE-A3FF-FB1AA4F3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441A-3552-4EEB-B1BB-FE5647261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Matlab ile Grafik Kullanıcı Arayüzü (GKA) Tasarım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zırlay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Cengiz Ge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Hand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r </a:t>
            </a: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Figure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Nesnesine Hand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andle1=fig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r </a:t>
            </a: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Axes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Nesnesine Hand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andle2=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r </a:t>
            </a: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Lineseries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Nesnesine Hand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andle3=plot(rand(1,100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r </a:t>
            </a: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Stemseries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Nesnesine Hand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andle4=stem(randn(1,100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Nesnesini Handle’ı ile Silmeyi Denem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delete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Nesnelerin Özellikle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er Nesnenin kendine has özellikleri var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özellikl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işlevi ile okun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get(h,'PropertyName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işlevi ile değiştirir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et(h,'PropertyName',PropertyValue,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evcut Nesnel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Arial"/>
              </a:rPr>
              <a:t>finobj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işlevi ile arattırılabi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 = findobj('PropertyName',PropertyValue,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işlevi ile silinebi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delete(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Analog Input Nesne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tr-TR" sz="2400" spc="-1" strike="noStrike">
                <a:solidFill>
                  <a:srgbClr val="000000"/>
                </a:solidFill>
                <a:latin typeface="Arial"/>
              </a:rPr>
              <a:t>analoginput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işlevi ile nesne yarat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 = analoginput('adaptor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Arial"/>
              </a:rPr>
              <a:t>addchannel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işlevi ile nesneye kanal eklen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s = addchannel(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hw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işlevi ile nesne başlat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tart(A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işlevi ile nesne durdurul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top(A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işlevi ile nesne silin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delete(A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GUIDE ile GKA Oluşturur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GKA Bileşenleri Layout(Figure) Üzerine Yeleştir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atlab’te GKA farklı uicontrol nesneleri içerebilen bir figure penceresi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GKA Nesneleri Programlan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GKA’ya eklenen nesneler kullanıcı ile etkileştiklerinde istenilen görevleri yerine getirebilmeleri için programlanmalı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971640" y="1258920"/>
            <a:ext cx="698508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Call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Bir GKA bileşeni ile ilişkilendirilmiş işlevd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Bu işleve yazılan kod GKA’ün olaylara nasıl cevap vereceğini belirler. Mesela Butona ait callback butona basıldığında koşturul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Callback Çeşitle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b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Fc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Fc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tonDownFc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PressFc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GKA için İki Farklı Dosy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00"/>
                </a:solidFill>
                <a:uFillTx/>
                <a:latin typeface="Arial"/>
              </a:rPr>
              <a:t>Fig Dosyası: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GKA layout’unun tüm bilgilerini tutan dosya türü. Kayıtlar ikili biçimde tutulur değiştirebilmek için GUIDE kullanılmalı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00"/>
                </a:solidFill>
                <a:uFillTx/>
                <a:latin typeface="Arial"/>
              </a:rPr>
              <a:t>M-Dosyası: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Callback’ler için taslaklar ve açılış kodlarını bulundurur. GKA bileşenleri ile ilişkili callback’ler bu dosyanın içine yazılmalıdı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icontrol </a:t>
            </a: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Nesneler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539640" y="2060640"/>
            <a:ext cx="381024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ggle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4427640" y="1989000"/>
            <a:ext cx="3809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Pa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p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Handles Yapıs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000000"/>
                </a:solidFill>
                <a:latin typeface="Arial"/>
              </a:rPr>
              <a:t>guidata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işlevi: GKA’e ait figure’e veri bağlamak için kullanılan işl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Grafik Kullanıcı Arayüzü (GK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Cihazların ve/veya bileşenlerin bulunduğu, kullanıcının etkileşimli görevleri yerine getirebileceği grafik ekra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u görevleri yerine getiriken kullanıcı komut yazmak veya bir script yaratmak zorunda değil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enuler, Görev Çubukları, Butonlar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rial"/>
              </a:rPr>
              <a:t>Neden GK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ullanıcının hangi komutların mevcut veya çalıştırlabilir olduğunu bilmesine gerek bırakmadığı için GKA’e sahip uygulamalar genellikle daha kolay öğrenil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Bir sonraki işlem veya işlemler arayüz tasarımı sayesinde anlaşılabilir hale getirilebil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rial"/>
              </a:rPr>
              <a:t>Matlab ile G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600" spc="-1" strike="noStrike" u="sng">
                <a:solidFill>
                  <a:srgbClr val="000000"/>
                </a:solidFill>
                <a:uFillTx/>
                <a:latin typeface="Arial"/>
              </a:rPr>
              <a:t>Üç farklı yönte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1) Diyalog Kutusu Kullanar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(msgbox, inputdlg, 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2) Programlayar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(uicontrol,uipanel,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3) GUIDE Yardımıy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rial"/>
              </a:rPr>
              <a:t>1) Diyalog Kutu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msgbox (‘matlab ogreniyorum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errordlg(‘bu bir hata mesajıdır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c=inputd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c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dlg(‘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cimenler mavi midir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',‘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sor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'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ui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uis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wait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rial"/>
              </a:rPr>
              <a:t>2) Programlayar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le = uicontrol('PropertyName',Property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 = uicontrol('Style', 'pushbutton','Position',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20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,..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50 100 70], 'Callback', 'cla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3) GUIDE (Graphical User Interface Development Environ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GUIDE ile GKA oluştururken izlenen adıml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Nesnelerin(buton, text kutusu, axes,... ) figure(layout) üzerindeki yerlerini düzen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Nesne ile etkileşildiğinde çalışacak işlevleri y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aydet, çalışt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Matlab’te Grafik Nesnele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1116000" y="1065240"/>
            <a:ext cx="676908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Matlab’te Grafik Nesnele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ore Nesnel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xes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lot Nesnele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rea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ar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contour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errorbar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line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419640" y="1628640"/>
            <a:ext cx="3682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rectangle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guiver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catter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tair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tem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urface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18:21:24Z</dcterms:created>
  <dc:creator>platy</dc:creator>
  <dc:description/>
  <dc:language>en-US</dc:language>
  <cp:lastModifiedBy>Windows User</cp:lastModifiedBy>
  <dcterms:modified xsi:type="dcterms:W3CDTF">2011-02-23T07:17:53Z</dcterms:modified>
  <cp:revision>19</cp:revision>
  <dc:subject/>
  <dc:title>Matlab ile Grafik Kullanıcı Arayüzü (GUI) Tasarımı</dc:title>
</cp:coreProperties>
</file>