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2F1-E608-474A-8F1B-DFD8009E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472-B41A-4FEA-BE4C-07B82654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881-9325-4A08-AA18-8A2C057A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BA2-AD89-4600-A790-B00ABA3C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AFB-2135-49FC-B215-9D353220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8CD-42BA-44D2-BC6C-CAA294EB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FD1-E11D-4A73-9E6D-CCBDE1A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EC2-FE63-46B8-AFCE-8EC2C5C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BD1-242F-4CDA-90C1-7FB7B61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3EF-AC53-4940-AF22-C6E616D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267-7A76-423A-8DD2-3053601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78B-2BFA-4511-B51C-686E449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4D4-8C11-4A75-828B-FD66F79B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82640" y="655308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Times New Roman"/>
              </a:rPr>
              <a:t>Dr. Rahmi Nurhan ÇELİK, ITU Department of Geode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1489" t="5049" r="9486" b="3366"/>
          <a:stretch/>
        </p:blipFill>
        <p:spPr>
          <a:xfrm>
            <a:off x="8626320" y="6243480"/>
            <a:ext cx="390600" cy="538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763880" y="0"/>
            <a:ext cx="435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99ff"/>
                </a:solidFill>
                <a:latin typeface="Times New Roman"/>
              </a:rPr>
              <a:t>This lecture has been revised from Leica-Geosystem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785880"/>
            <a:ext cx="7996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GPS Techniqu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585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 Dr.</a:t>
            </a: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hmi Nurhan ÇELİ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elikn@itu.edu.t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304920"/>
            <a:ext cx="5790960" cy="4618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– What comes? And when? And what benefits for the surveyor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2680" y="609120"/>
            <a:ext cx="877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PS – What come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2C – “second civil frequency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ew additional code on L2 (the second frequency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ronger signal than L2P – allow positioning inside of buildings, only multi-meter accurac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asier to track than encrypted P2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ess precise than encrypted P2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2C phase is 90° opposite L2P ph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5 – “third civil frequency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ew additional code on additional carrier frequenc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llows additional linear combinations of frequencies to solve ambiguiti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onger baselines with fixed ambiguitie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Quicker solving of ambiguities (instantaneous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ore reliable in high iono condition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racking of L2C and L5 require new hardw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6880" y="50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PS – What comes whe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62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2C – “second civil frequency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irst GPS satellite (PRN17) with L2C launched in September 2005 and operational in December 2005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lock IIR-M satellite – an additional 7 IIR-M satellites waiting to be launch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PS satellites only replaced when necessary – on average 2-3 satellites per year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5 – “third civil frequency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irst GPS satellite (Block IIF satellite) with L5 is “in the queue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o be launched approximately in 2008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 assuming 2.5 launches per year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13 before a usable L5 constella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781360" y="5257800"/>
            <a:ext cx="3454200" cy="799920"/>
            <a:chOff x="2781360" y="5257800"/>
            <a:chExt cx="3454200" cy="799920"/>
          </a:xfrm>
        </p:grpSpPr>
        <p:sp>
          <p:nvSpPr>
            <p:cNvPr id="75" name=""/>
            <p:cNvSpPr/>
            <p:nvPr/>
          </p:nvSpPr>
          <p:spPr>
            <a:xfrm>
              <a:off x="2781360" y="5257800"/>
              <a:ext cx="345420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2895480" y="5330520"/>
            <a:ext cx="3276000" cy="676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5330520"/>
                      <a:ext cx="3276000" cy="6764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PS – And what benefits for the surveyor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62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2C – “second civil frequency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or the GPS manufacturer it is easier to track L2 (no benefit for surveyor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rginally stronger signa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ut these weaker signals could deteriorate position solution since weak signals have in general higher noise – track L2C or L2P?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% benefit for a surveyor with L2C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fficult to mix reference with L2P and rover with L2C due to phase shift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5 – “third civil frequency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crease in redundancy of observatio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light accuracy improvements (appr. 5 %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mbiguity resolution times reduced (instantaneous might be realstic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mbiguity resolution possible over even longer baselines – competition with reference networks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0% benefit for a surveyor with L2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iceable improvements with FOC of L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LONASS – What come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5640" y="181620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1 and L2 code and phase measuremen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dentical satellite signals but on different frequencie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PS has different signals on the same frequenci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ter-frequency biases between different satellites are difficult to remo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nimum of 2 GLONASS satellites must be observed in order to contribute to solving of GPS ambiguiti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3 code and phase measuremen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lanned for next generation GLONASS satellites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ame advantages as for GPS L5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59400" y="4545000"/>
            <a:ext cx="2632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LONASS – What comes whe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995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ll constellation of 24 GLONASS satelli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duced to 7 satelli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n average less than 2 visibl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rom 2000 onwar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 average 3 satellites per year launche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 2006 17 usable satelli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y 2008 full constellation should be availa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constellation now avail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77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LONASS – And what benefits for the surveyor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dditional satellit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nerally speaking the more satellites the bett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2717640"/>
            <a:ext cx="59342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840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LILEO – What come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pen Service” - “Free” access to any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 (4) carrier frequencie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1 – code and ph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5a, E5b, Alt</a:t>
            </a:r>
            <a:r>
              <a:rPr b="0" lang="tr-TR" sz="16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OC, code and ph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mercial Service” – “Restricted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 frequency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6 – code and phase (needs hardware encryption in ASIC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gnal structure for E1 and E5 band is similar to GPS, E1 signal is to large extent compatible with GP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racking Galileo signals requires in principle new receiver hardw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3 frequency receiv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LILEO – What comes whe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om the EU brochure 200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pha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velopment and validations of orbit (2002-2005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gree mission target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velop 3-4 satellites and ground compone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ve the concept of the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struction (2006-2007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duce 27-28 satellit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stall ground statio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mercial business (from 2008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LILEO – What comes whe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lit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8 December 200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-2124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irst test satelli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tract for construction and operation of system is not yet signe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-2124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iginally planned for 2001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lay of at least 3-4 years must be expecte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062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011 before Galileo is operation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Comic Sans MS"/>
              </a:rPr>
              <a:t>GPS or GNSS 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9360" y="60912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LILEO – And what benefits for the surveyor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ssump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lileo as stand alone system will be at least as good as GP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lileo and GPS combined on average 20% performance increase (availability, accuracy, range, speed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Galileo ALT-BOC signal will have best multipath mitigation characteristics – 15-20 cm accuracy with differential code will be realistic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mbiguity resolution will be much easier – the reason why </a:t>
            </a:r>
            <a:r>
              <a:rPr b="0" lang="tr-TR" sz="1800" spc="-1" strike="noStrike">
                <a:solidFill>
                  <a:srgbClr val="ffffff"/>
                </a:solidFill>
                <a:latin typeface="Comic Sans MS"/>
              </a:rPr>
              <a:t>GLONAS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does not give same benefit, is that wavelength are different for each satellite and the integer nature of double differences is gon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304920"/>
            <a:ext cx="5790960" cy="4618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omic Sans MS"/>
              </a:rPr>
              <a:t>GNSS – Open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</a:t>
            </a:r>
            <a:r>
              <a:rPr b="0" lang="de-CH" sz="32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– Open question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640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PS L2C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rack L2C or P2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2C is stronger, but P2 is more preci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ixing (L2C from reference and P2 from rover) is always worse than identical tracking – and solving the phase ambiguity is diffic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advantage in tracking 1,2,3…12 L2C when the majority of the remaining satellites do not support L2C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w will the reference station operators decide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– Open question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PS L5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 frequency hardware is more expensive then 2 frequenc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use is buying a 3 frequency receiver today when only after 2010 will more than 6 L5 satellites be availab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uld you buy a (more expensive) car now that can use a fuel additive to make your car more efficient, but the additive is only available in 2010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– Open question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LONA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frequency hardware is more expensive then 2 frequenc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manufacturer independent data format will be difficult to realize for </a:t>
            </a: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GLONA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w are GLONASS observations combined from the different sensor types – interfrequency biases need to be solv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– Open question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ssuming GPS and GLONASS are still around…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rom 2011, the following signals will be availab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PS: L1, L2, L2C, L5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LONASS: L1, L2, L3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alileo: L1, E5a, E5b, ALT-BOC, (E6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ich signals and codes will reference network operators support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RTK data format will be used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ich signals should the rover use (and to what extent)? Sometimes fewer is mo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28480" y="20732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3840" y="2136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640" y="636120"/>
            <a:ext cx="80978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rveying with GNSS in 2016 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520560" y="2857680"/>
            <a:ext cx="41389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 GPS and 17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GLONAS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Frequencies (L1, L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6 observations on average per epoch without ob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 observations with ob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K up to 30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“ typical initializa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K accuracy ±15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35640" y="2857680"/>
            <a:ext cx="41385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 GPS, 24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GLONAS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V, 30 Gali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Frequencies (L1, L2, L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6 observations on average per epoch without ob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 observations with ob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K up to 50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“ typical initializa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K accuracy ±10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760" y="2666880"/>
            <a:ext cx="831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6640" y="4075200"/>
            <a:ext cx="7996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ave a nice week 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56800" y="3159000"/>
            <a:ext cx="7410960" cy="635040"/>
            <a:chOff x="856800" y="3159000"/>
            <a:chExt cx="7410960" cy="635040"/>
          </a:xfrm>
        </p:grpSpPr>
        <p:sp>
          <p:nvSpPr>
            <p:cNvPr id="114" name=""/>
            <p:cNvSpPr/>
            <p:nvPr/>
          </p:nvSpPr>
          <p:spPr>
            <a:xfrm>
              <a:off x="901800" y="3594240"/>
              <a:ext cx="652788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396200" y="3330720"/>
              <a:ext cx="8715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56800" y="3159000"/>
              <a:ext cx="243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Thank you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304920"/>
            <a:ext cx="5790960" cy="4618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Comic Sans MS"/>
              </a:rPr>
              <a:t>GNSS – what is it and does it make sens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GNS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Global Navigation Satellite Systems, but generally speaking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ifferent independent satellite based navigation syste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PS – US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imarily military system developed US DoD during the Cold War – part of Ronnie Reagan’s SDI (Strategic Defense Initiative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LONASS (GLO) – Russi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veloped in the 1980s to stay in “competition” with USA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alileo – European Un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fforts by the EU to become a competitor in the Space Industry and become independent from the USA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GNSS make sen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cially Galileo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lete redundancy from other navigation systems is inevitable (but not yet possible (flight navigation…)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ussia is not politically stab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PS alone is not sufficie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pendence on GPS is already today not to be underestima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ewer fixed survey control points being maintained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omputer networks time synchronized by GP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o can guarantee the free availability of GPS signals in 2030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GNSS make sen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cially Galileo… from a business/political point of view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lileo is not expensive. To develop and build 30 satellites and construction of ground stations costs 3.2-3.4 billion Euro. Same cost as 150km of highway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ifferent studies estimate the annual market for related accessories and services as a consequence of Galileo to be 10 billion Euro with 100 000 jobs being create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siderable reduction in fatal accidents and traffic ja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t of 40 000 fatal road traffic accidents per year for businesses is 1.5 - 2.5% of GDP of the EU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t of traffic jams approximately 2% of GDP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0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GNSS make sen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640" y="1714320"/>
            <a:ext cx="508032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cially Galileo… fact and fiction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DP of the EU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timated Galileo Cost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U Contribution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mised business potentia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mised additional job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timated costs of traffic ja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mised savings of traffic ja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PS costs until 199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61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5092560" y="1803240"/>
            <a:ext cx="359424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0‘000‘0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‘4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‘0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‘0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‘000‘0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‘000‘0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$ 15‘000‘000‘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240" y="5842080"/>
            <a:ext cx="831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44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is GNSS interesting for surveyor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1905120"/>
            <a:ext cx="8510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urrent satellite availability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r example... in Hamburg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otal GPS satellites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verage number visible above horizon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7 (25%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verage number visible with only 50% horizon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 (13%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3936960"/>
            <a:ext cx="4572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640" y="46944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NSS Surveying and Future Satellite Sign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is GNSS interesting for surveyor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uture satellite availability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enerally with free horizons, GPS is suffici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t with obstructions (reality) every additional satellite is an advantag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  or more satellites required for fixing ambiguiti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3880" y="2755800"/>
            <a:ext cx="5575320" cy="1460520"/>
            <a:chOff x="1523880" y="2755800"/>
            <a:chExt cx="5575320" cy="1460520"/>
          </a:xfrm>
        </p:grpSpPr>
        <p:sp>
          <p:nvSpPr>
            <p:cNvPr id="65" name=""/>
            <p:cNvSpPr/>
            <p:nvPr/>
          </p:nvSpPr>
          <p:spPr>
            <a:xfrm>
              <a:off x="1523880" y="2755800"/>
              <a:ext cx="5575320" cy="146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1574640" y="2803680"/>
            <a:ext cx="5486400" cy="1388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4640" y="2803680"/>
                      <a:ext cx="5486400" cy="13888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1:29:55Z</dcterms:created>
  <dc:creator>Rahmi Nurhan CELIK</dc:creator>
  <dc:description/>
  <dc:language>en-US</dc:language>
  <cp:lastModifiedBy>rahmi nuran çelik</cp:lastModifiedBy>
  <dcterms:modified xsi:type="dcterms:W3CDTF">2006-12-05T08:13:36Z</dcterms:modified>
  <cp:revision>72</cp:revision>
  <dc:subject/>
  <dc:title>Space Segment</dc:title>
</cp:coreProperties>
</file>