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4DC-A29E-4C4E-9879-880986F4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E82-70B3-4378-8F27-F094530D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BCA-7524-431B-931C-5C7D10D7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BD4-6B81-444A-A089-C9E7C9C3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A4E-A287-48EC-AA6A-50B72E62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B87-32E5-48CC-A895-277B31E6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743-BF9E-437F-9C1C-295EA69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303-942E-432F-AE2F-26654D9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059-D7D4-472A-8011-F7724089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D5B-A318-4DF4-9447-0A0FFD0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8ED-6125-4C17-9E36-09951F5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C67-546E-4ACA-8667-8AC520B4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A36E-7AAD-4F65-9E29-3F4663092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82640" y="655308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99ff"/>
                </a:solidFill>
                <a:latin typeface="Times New Roman"/>
              </a:rPr>
              <a:t>Dr. Rahmi Nurhan ÇELİK, ITU Department of Geode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11489" t="5049" r="9486" b="3366"/>
          <a:stretch/>
        </p:blipFill>
        <p:spPr>
          <a:xfrm>
            <a:off x="8626320" y="6243480"/>
            <a:ext cx="39060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1120" y="785880"/>
            <a:ext cx="79963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GPS Techniqu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5856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ssoc. Prof. Dr.</a:t>
            </a:r>
            <a:r>
              <a:rPr b="1" lang="tr-T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ahmi Nurhan ÇELİ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TU Department o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Geodesy &amp; Photogrammet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ivision of Geodes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el: 0212-285382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elikn@itu.edu.t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ttp://atlas.cc.itu.edu.tr/~celik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tellite Availabilit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41306" b="6095"/>
          <a:stretch/>
        </p:blipFill>
        <p:spPr>
          <a:xfrm>
            <a:off x="1871640" y="1111320"/>
            <a:ext cx="54277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6239"/>
          <a:stretch/>
        </p:blipFill>
        <p:spPr>
          <a:xfrm>
            <a:off x="0" y="1235160"/>
            <a:ext cx="9144000" cy="5357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6095"/>
          <a:stretch/>
        </p:blipFill>
        <p:spPr>
          <a:xfrm>
            <a:off x="0" y="1227240"/>
            <a:ext cx="9144000" cy="5367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atellite Availabilit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520" y="22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signing GPS Network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6411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PS NETWORK DESIG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984320"/>
            <a:ext cx="87105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ierarchy of GPS Network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- Order Networks: Global &amp; Regional Networks (ITRF, EUREF etc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- Order Networks: National networks connected to Global Network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- Order Networks: Densificated Networks of B Order Network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- Order Networks:  First step of B Network Densification. Baseline length varies from 15 to 20 km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- Order Networks: Second step of B Network Densification. Control Station Densification is 15 k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/Control</a:t>
            </a: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- Order Networks: Third step of B Network Densification. Control Station Densification is 5 k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/Control</a:t>
            </a: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- Order Networks: Fourth step of B Network Densification. Traverse stations and traverse network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7320" y="1800360"/>
            <a:ext cx="77724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tional Regulations 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ul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aw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0080" y="61092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PS Receivers for Geodetic Networ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53720" y="2038320"/>
            <a:ext cx="728028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ual Frequency Geodetic Receiv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/A &amp; P  Cod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rier Ph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1 &amp; L2 Frequenc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tenna Heigh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4667400" y="2133720"/>
            <a:ext cx="3085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1560" y="5810400"/>
            <a:ext cx="514440" cy="190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307320" y="2151000"/>
            <a:ext cx="2443680" cy="4310640"/>
            <a:chOff x="3307320" y="2151000"/>
            <a:chExt cx="2443680" cy="4310640"/>
          </a:xfrm>
        </p:grpSpPr>
        <p:sp>
          <p:nvSpPr>
            <p:cNvPr id="74" name=""/>
            <p:cNvSpPr/>
            <p:nvPr/>
          </p:nvSpPr>
          <p:spPr>
            <a:xfrm>
              <a:off x="4222800" y="2598840"/>
              <a:ext cx="938160" cy="36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95880" y="2151000"/>
              <a:ext cx="793440" cy="4334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3400" y="2959200"/>
              <a:ext cx="144360" cy="158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81640" y="3117960"/>
              <a:ext cx="40464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307320" y="3304080"/>
              <a:ext cx="1084680" cy="2823480"/>
              <a:chOff x="3307320" y="3304080"/>
              <a:chExt cx="1084680" cy="2823480"/>
            </a:xfrm>
          </p:grpSpPr>
          <p:sp>
            <p:nvSpPr>
              <p:cNvPr id="79" name=""/>
              <p:cNvSpPr/>
              <p:nvPr/>
            </p:nvSpPr>
            <p:spPr>
              <a:xfrm rot="1078800">
                <a:off x="3903480" y="3259080"/>
                <a:ext cx="104760" cy="2502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2112200">
                <a:off x="3393720" y="5614200"/>
                <a:ext cx="174600" cy="49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919040" y="3300840"/>
              <a:ext cx="831960" cy="2880360"/>
              <a:chOff x="4919040" y="3300840"/>
              <a:chExt cx="831960" cy="2880360"/>
            </a:xfrm>
          </p:grpSpPr>
          <p:sp>
            <p:nvSpPr>
              <p:cNvPr id="82" name=""/>
              <p:cNvSpPr/>
              <p:nvPr/>
            </p:nvSpPr>
            <p:spPr>
              <a:xfrm rot="20718600">
                <a:off x="5234760" y="3273120"/>
                <a:ext cx="104760" cy="2502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0150800">
                <a:off x="5531040" y="5670360"/>
                <a:ext cx="174600" cy="49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rot="557400">
              <a:off x="4387320" y="3296880"/>
              <a:ext cx="131760" cy="2787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1341200">
              <a:off x="4099680" y="5892120"/>
              <a:ext cx="219240" cy="555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95880" y="3276720"/>
              <a:ext cx="749160" cy="8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533840" y="5829480"/>
            <a:ext cx="3181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34280" y="1943280"/>
            <a:ext cx="0" cy="4171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37814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6480" y="3124080"/>
            <a:ext cx="3085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2000160"/>
            <a:ext cx="0" cy="1371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88160" y="239076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2952720"/>
            <a:ext cx="0" cy="3314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45360" y="4162320"/>
            <a:ext cx="69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9440" y="3666960"/>
            <a:ext cx="298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 a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0280" y="272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PS NETWORK DESIG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048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dependent Baseline Solu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 = n-1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: Number of independent baseline solution in a sess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: Number of receivers used in a sessio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necting to Higher Order Network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09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15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6560" y="4960800"/>
            <a:ext cx="7488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38560" y="5659560"/>
            <a:ext cx="612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31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37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43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49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94600" y="576576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ffff"/>
                </a:solidFill>
                <a:latin typeface="Arial"/>
              </a:rPr>
              <a:t>B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44200" y="98280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ffff"/>
                </a:solidFill>
                <a:latin typeface="Arial"/>
              </a:rPr>
              <a:t>B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3720" y="258408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an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PS Survey and Network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68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74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6560" y="4960800"/>
            <a:ext cx="7488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38560" y="5659560"/>
            <a:ext cx="612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90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96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202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208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94600" y="576576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ffff"/>
                </a:solidFill>
                <a:latin typeface="Arial"/>
              </a:rPr>
              <a:t>B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44200" y="98280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ffff"/>
                </a:solidFill>
                <a:latin typeface="Arial"/>
              </a:rPr>
              <a:t>B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20520" y="27795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36680" y="48960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2080" y="28670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230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236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16560" y="4960800"/>
            <a:ext cx="7488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38560" y="5659560"/>
            <a:ext cx="612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252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258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264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270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94600" y="576576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ffff"/>
                </a:solidFill>
                <a:latin typeface="Arial"/>
              </a:rPr>
              <a:t>B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44200" y="98280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ffff"/>
                </a:solidFill>
                <a:latin typeface="Arial"/>
              </a:rPr>
              <a:t>B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48560" y="32497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20520" y="27795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36680" y="48960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82080" y="28670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55360" y="416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4320" y="49546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49200" y="34034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11160" y="19400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61520" y="20048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90240" y="39751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139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ess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00280" y="36385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Number of Receivers Available</a:t>
            </a: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4 Dual Frequency GPS Receiv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301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307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313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316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322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325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331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340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348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354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360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366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67040" y="513252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65240" y="23763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01880" y="231300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394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400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406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415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418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424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427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433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434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8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441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447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453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459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67040" y="513252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65240" y="23763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01880" y="231300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481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490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496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502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505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511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514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9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520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523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529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530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536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542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548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554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571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6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930920" y="75888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65240" y="23763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14840" y="2297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583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592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598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604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607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613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616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622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625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631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632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638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644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650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656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673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674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8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30920" y="75888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65240" y="23763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714840" y="2297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688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698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704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710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712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713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8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719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7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728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731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6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737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738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9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2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744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745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9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756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762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768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774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30920" y="75888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791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801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807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813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815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816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9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822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825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0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831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834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7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9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840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841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5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847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848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2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860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866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872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878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930920" y="75888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89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905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911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917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920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5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926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929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4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935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6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937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938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3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944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945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6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9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951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952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3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6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964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970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976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982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994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996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997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0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2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003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006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1" name=""/>
          <p:cNvSpPr/>
          <p:nvPr/>
        </p:nvSpPr>
        <p:spPr>
          <a:xfrm>
            <a:off x="5151600" y="909720"/>
            <a:ext cx="374400" cy="37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808520" y="1635120"/>
            <a:ext cx="37476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21360" y="308772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rst Checks of the Surve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848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goal of your surve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positioning precision expect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positional outputs (Coordinate System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lecting info about the survey and fie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lecting right instruments (receiver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paring equipments for the surve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forming staff about the surve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paring materials for the field 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ing Satellite Availabil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017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027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033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039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042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5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7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048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050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051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6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057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059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060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5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066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067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1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073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074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5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8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086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092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098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104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116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119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2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4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125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128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1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3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134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137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151600" y="909720"/>
            <a:ext cx="374400" cy="37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808520" y="1635120"/>
            <a:ext cx="37476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21360" y="308772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14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155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161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167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169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170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5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176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178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179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4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185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187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188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3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194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195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9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201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202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3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6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214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220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226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232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243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246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9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1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252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255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8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261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264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267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269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1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273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275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276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1" name=""/>
          <p:cNvSpPr/>
          <p:nvPr/>
        </p:nvSpPr>
        <p:spPr>
          <a:xfrm>
            <a:off x="1284120" y="24685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92360" y="287640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46640" y="183204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287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297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303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309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311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312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5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318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320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321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4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6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327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329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330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5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336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337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8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1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343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344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5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8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356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362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368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374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385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387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388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1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3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394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397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0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2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403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406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409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411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3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1415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1418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421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423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424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7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9" name=""/>
          <p:cNvSpPr/>
          <p:nvPr/>
        </p:nvSpPr>
        <p:spPr>
          <a:xfrm>
            <a:off x="1284120" y="24685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92360" y="287640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446640" y="183204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43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445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451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457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8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459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460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3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5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466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469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4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475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478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484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485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6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487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9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491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492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3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6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504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510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516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522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533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4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535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536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9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1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542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3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545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8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0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551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554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557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559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1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1563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1566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569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0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571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572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5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1578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1581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4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6" name=""/>
          <p:cNvSpPr/>
          <p:nvPr/>
        </p:nvSpPr>
        <p:spPr>
          <a:xfrm>
            <a:off x="1284120" y="24685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005280" y="3857760"/>
            <a:ext cx="37440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591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2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8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601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607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613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615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616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622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624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625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8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0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631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2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633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634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7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9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640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641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2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5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647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648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9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2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660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666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672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678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3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689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0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691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692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5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7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698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9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700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701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4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6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707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710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713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715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7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1719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1722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725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6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728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1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3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1734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1736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1737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0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2" name=""/>
          <p:cNvGrpSpPr/>
          <p:nvPr/>
        </p:nvGrpSpPr>
        <p:grpSpPr>
          <a:xfrm>
            <a:off x="1486080" y="2546280"/>
            <a:ext cx="2621880" cy="1428840"/>
            <a:chOff x="1486080" y="2546280"/>
            <a:chExt cx="2621880" cy="1428840"/>
          </a:xfrm>
        </p:grpSpPr>
        <p:sp>
          <p:nvSpPr>
            <p:cNvPr id="1743" name=""/>
            <p:cNvSpPr/>
            <p:nvPr/>
          </p:nvSpPr>
          <p:spPr>
            <a:xfrm>
              <a:off x="1486080" y="2584440"/>
              <a:ext cx="1688760" cy="1390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3187440" y="2546280"/>
              <a:ext cx="920520" cy="14288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1284120" y="24685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005280" y="3857760"/>
            <a:ext cx="37440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9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750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1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7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9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760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766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772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3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0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781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7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9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790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792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6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8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799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801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7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808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809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0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3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815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817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9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821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2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823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824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9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830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831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2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5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6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1837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1839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1840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3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5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848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9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850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851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4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6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4433760" y="3933720"/>
            <a:ext cx="134640" cy="307800"/>
            <a:chOff x="4433760" y="3933720"/>
            <a:chExt cx="134640" cy="307800"/>
          </a:xfrm>
        </p:grpSpPr>
        <p:grpSp>
          <p:nvGrpSpPr>
            <p:cNvPr id="1859" name=""/>
            <p:cNvGrpSpPr/>
            <p:nvPr/>
          </p:nvGrpSpPr>
          <p:grpSpPr>
            <a:xfrm>
              <a:off x="4433760" y="3933720"/>
              <a:ext cx="134640" cy="215280"/>
              <a:chOff x="4433760" y="3933720"/>
              <a:chExt cx="134640" cy="215280"/>
            </a:xfrm>
          </p:grpSpPr>
          <p:sp>
            <p:nvSpPr>
              <p:cNvPr id="1860" name=""/>
              <p:cNvSpPr/>
              <p:nvPr/>
            </p:nvSpPr>
            <p:spPr>
              <a:xfrm>
                <a:off x="4500360" y="404136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1" name=""/>
              <p:cNvGrpSpPr/>
              <p:nvPr/>
            </p:nvGrpSpPr>
            <p:grpSpPr>
              <a:xfrm>
                <a:off x="4433760" y="3933720"/>
                <a:ext cx="134640" cy="153720"/>
                <a:chOff x="4433760" y="3933720"/>
                <a:chExt cx="134640" cy="153720"/>
              </a:xfrm>
            </p:grpSpPr>
            <p:sp>
              <p:nvSpPr>
                <p:cNvPr id="1862" name=""/>
                <p:cNvSpPr/>
                <p:nvPr/>
              </p:nvSpPr>
              <p:spPr>
                <a:xfrm>
                  <a:off x="4435200" y="393372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4433760" y="401940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4" name=""/>
            <p:cNvSpPr/>
            <p:nvPr/>
          </p:nvSpPr>
          <p:spPr>
            <a:xfrm>
              <a:off x="4503600" y="412092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868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874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880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886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1892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1895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1486080" y="2546280"/>
            <a:ext cx="2621880" cy="1428840"/>
            <a:chOff x="1486080" y="2546280"/>
            <a:chExt cx="2621880" cy="1428840"/>
          </a:xfrm>
        </p:grpSpPr>
        <p:sp>
          <p:nvSpPr>
            <p:cNvPr id="1898" name=""/>
            <p:cNvSpPr/>
            <p:nvPr/>
          </p:nvSpPr>
          <p:spPr>
            <a:xfrm>
              <a:off x="1486080" y="2584440"/>
              <a:ext cx="1688760" cy="1390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3187440" y="2546280"/>
              <a:ext cx="920520" cy="1428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901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904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4238640" y="4721400"/>
            <a:ext cx="256680" cy="542520"/>
            <a:chOff x="4238640" y="4721400"/>
            <a:chExt cx="256680" cy="542520"/>
          </a:xfrm>
        </p:grpSpPr>
        <p:sp>
          <p:nvSpPr>
            <p:cNvPr id="1907" name=""/>
            <p:cNvSpPr/>
            <p:nvPr/>
          </p:nvSpPr>
          <p:spPr>
            <a:xfrm>
              <a:off x="4325760" y="50706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4238640" y="4721400"/>
              <a:ext cx="256680" cy="542520"/>
              <a:chOff x="4238640" y="4721400"/>
              <a:chExt cx="256680" cy="542520"/>
            </a:xfrm>
          </p:grpSpPr>
          <p:grpSp>
            <p:nvGrpSpPr>
              <p:cNvPr id="1909" name=""/>
              <p:cNvGrpSpPr/>
              <p:nvPr/>
            </p:nvGrpSpPr>
            <p:grpSpPr>
              <a:xfrm>
                <a:off x="4238640" y="4868640"/>
                <a:ext cx="256680" cy="395280"/>
                <a:chOff x="4238640" y="4868640"/>
                <a:chExt cx="256680" cy="395280"/>
              </a:xfrm>
            </p:grpSpPr>
            <p:sp>
              <p:nvSpPr>
                <p:cNvPr id="1910" name=""/>
                <p:cNvSpPr/>
                <p:nvPr/>
              </p:nvSpPr>
              <p:spPr>
                <a:xfrm flipH="1">
                  <a:off x="4238640" y="486864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373640" y="487656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>
                  <a:off x="4339800" y="486864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4286880" y="472140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286160" y="480636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5" name=""/>
          <p:cNvSpPr/>
          <p:nvPr/>
        </p:nvSpPr>
        <p:spPr>
          <a:xfrm>
            <a:off x="3060720" y="535464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4560" y="45133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317840" y="3814920"/>
            <a:ext cx="37476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168800" y="4602240"/>
            <a:ext cx="37476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921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2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8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931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6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937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943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945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946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9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1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952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954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955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8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0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961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2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963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964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7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9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970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1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972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973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6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8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979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980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1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4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986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988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0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1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992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3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994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995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8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0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2001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2002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3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6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2008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9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2010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2011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4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6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8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2019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0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2021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2022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5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7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4433760" y="3933720"/>
            <a:ext cx="134640" cy="307800"/>
            <a:chOff x="4433760" y="3933720"/>
            <a:chExt cx="134640" cy="307800"/>
          </a:xfrm>
        </p:grpSpPr>
        <p:grpSp>
          <p:nvGrpSpPr>
            <p:cNvPr id="2030" name=""/>
            <p:cNvGrpSpPr/>
            <p:nvPr/>
          </p:nvGrpSpPr>
          <p:grpSpPr>
            <a:xfrm>
              <a:off x="4433760" y="3933720"/>
              <a:ext cx="134640" cy="215280"/>
              <a:chOff x="4433760" y="3933720"/>
              <a:chExt cx="134640" cy="215280"/>
            </a:xfrm>
          </p:grpSpPr>
          <p:sp>
            <p:nvSpPr>
              <p:cNvPr id="2031" name=""/>
              <p:cNvSpPr/>
              <p:nvPr/>
            </p:nvSpPr>
            <p:spPr>
              <a:xfrm>
                <a:off x="4500360" y="404136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2" name=""/>
              <p:cNvGrpSpPr/>
              <p:nvPr/>
            </p:nvGrpSpPr>
            <p:grpSpPr>
              <a:xfrm>
                <a:off x="4433760" y="3933720"/>
                <a:ext cx="134640" cy="153720"/>
                <a:chOff x="4433760" y="3933720"/>
                <a:chExt cx="134640" cy="153720"/>
              </a:xfrm>
            </p:grpSpPr>
            <p:sp>
              <p:nvSpPr>
                <p:cNvPr id="2033" name=""/>
                <p:cNvSpPr/>
                <p:nvPr/>
              </p:nvSpPr>
              <p:spPr>
                <a:xfrm>
                  <a:off x="4435200" y="393372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433760" y="401940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5" name=""/>
            <p:cNvSpPr/>
            <p:nvPr/>
          </p:nvSpPr>
          <p:spPr>
            <a:xfrm>
              <a:off x="4503600" y="412092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6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8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2039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4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2045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2051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2057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2" name=""/>
          <p:cNvGrpSpPr/>
          <p:nvPr/>
        </p:nvGrpSpPr>
        <p:grpSpPr>
          <a:xfrm>
            <a:off x="3232080" y="3936960"/>
            <a:ext cx="3124440" cy="1568160"/>
            <a:chOff x="3232080" y="3936960"/>
            <a:chExt cx="3124440" cy="1568160"/>
          </a:xfrm>
        </p:grpSpPr>
        <p:sp>
          <p:nvSpPr>
            <p:cNvPr id="2063" name=""/>
            <p:cNvSpPr/>
            <p:nvPr/>
          </p:nvSpPr>
          <p:spPr>
            <a:xfrm flipV="1">
              <a:off x="3232080" y="3943080"/>
              <a:ext cx="1270080" cy="15620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95680" y="3936960"/>
              <a:ext cx="1860840" cy="704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5" name=""/>
          <p:cNvGrpSpPr/>
          <p:nvPr/>
        </p:nvGrpSpPr>
        <p:grpSpPr>
          <a:xfrm>
            <a:off x="3232080" y="4635360"/>
            <a:ext cx="3117960" cy="876600"/>
            <a:chOff x="3232080" y="4635360"/>
            <a:chExt cx="3117960" cy="876600"/>
          </a:xfrm>
        </p:grpSpPr>
        <p:sp>
          <p:nvSpPr>
            <p:cNvPr id="2066" name=""/>
            <p:cNvSpPr/>
            <p:nvPr/>
          </p:nvSpPr>
          <p:spPr>
            <a:xfrm flipV="1">
              <a:off x="3232080" y="4724280"/>
              <a:ext cx="1117800" cy="787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V="1">
              <a:off x="4356000" y="4635360"/>
              <a:ext cx="1994040" cy="82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2069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2072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1486080" y="2546280"/>
            <a:ext cx="2621880" cy="1428840"/>
            <a:chOff x="1486080" y="2546280"/>
            <a:chExt cx="2621880" cy="1428840"/>
          </a:xfrm>
        </p:grpSpPr>
        <p:sp>
          <p:nvSpPr>
            <p:cNvPr id="2075" name=""/>
            <p:cNvSpPr/>
            <p:nvPr/>
          </p:nvSpPr>
          <p:spPr>
            <a:xfrm>
              <a:off x="1486080" y="2584440"/>
              <a:ext cx="1688760" cy="1390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3187440" y="2546280"/>
              <a:ext cx="920520" cy="1428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2078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0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2081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4238640" y="4721400"/>
            <a:ext cx="256680" cy="542520"/>
            <a:chOff x="4238640" y="4721400"/>
            <a:chExt cx="256680" cy="542520"/>
          </a:xfrm>
        </p:grpSpPr>
        <p:sp>
          <p:nvSpPr>
            <p:cNvPr id="2084" name=""/>
            <p:cNvSpPr/>
            <p:nvPr/>
          </p:nvSpPr>
          <p:spPr>
            <a:xfrm>
              <a:off x="4325760" y="50706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5" name=""/>
            <p:cNvGrpSpPr/>
            <p:nvPr/>
          </p:nvGrpSpPr>
          <p:grpSpPr>
            <a:xfrm>
              <a:off x="4238640" y="4721400"/>
              <a:ext cx="256680" cy="542520"/>
              <a:chOff x="4238640" y="4721400"/>
              <a:chExt cx="256680" cy="542520"/>
            </a:xfrm>
          </p:grpSpPr>
          <p:grpSp>
            <p:nvGrpSpPr>
              <p:cNvPr id="2086" name=""/>
              <p:cNvGrpSpPr/>
              <p:nvPr/>
            </p:nvGrpSpPr>
            <p:grpSpPr>
              <a:xfrm>
                <a:off x="4238640" y="4868640"/>
                <a:ext cx="256680" cy="395280"/>
                <a:chOff x="4238640" y="4868640"/>
                <a:chExt cx="256680" cy="395280"/>
              </a:xfrm>
            </p:grpSpPr>
            <p:sp>
              <p:nvSpPr>
                <p:cNvPr id="2087" name=""/>
                <p:cNvSpPr/>
                <p:nvPr/>
              </p:nvSpPr>
              <p:spPr>
                <a:xfrm flipH="1">
                  <a:off x="4238640" y="486864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4373640" y="487656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>
                  <a:off x="4339800" y="486864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0" name=""/>
              <p:cNvSpPr/>
              <p:nvPr/>
            </p:nvSpPr>
            <p:spPr>
              <a:xfrm>
                <a:off x="4286880" y="472140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286160" y="480636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2" name=""/>
          <p:cNvSpPr/>
          <p:nvPr/>
        </p:nvSpPr>
        <p:spPr>
          <a:xfrm>
            <a:off x="3060720" y="535464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154560" y="45133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317840" y="3814920"/>
            <a:ext cx="37476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168800" y="4602240"/>
            <a:ext cx="37476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7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098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9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5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2108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2114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2120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1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2122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2123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6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8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2129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0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2131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2132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5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7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2138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9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2140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2141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4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6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2147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8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2149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2150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3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5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2156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2157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8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2159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1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2163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4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2165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7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2169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2171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2172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5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7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2178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2179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3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4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2185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6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2187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2188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1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3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2196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7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2198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2199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2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4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4433760" y="3933720"/>
            <a:ext cx="134640" cy="307800"/>
            <a:chOff x="4433760" y="3933720"/>
            <a:chExt cx="134640" cy="307800"/>
          </a:xfrm>
        </p:grpSpPr>
        <p:grpSp>
          <p:nvGrpSpPr>
            <p:cNvPr id="2207" name=""/>
            <p:cNvGrpSpPr/>
            <p:nvPr/>
          </p:nvGrpSpPr>
          <p:grpSpPr>
            <a:xfrm>
              <a:off x="4433760" y="3933720"/>
              <a:ext cx="134640" cy="215280"/>
              <a:chOff x="4433760" y="3933720"/>
              <a:chExt cx="134640" cy="215280"/>
            </a:xfrm>
          </p:grpSpPr>
          <p:sp>
            <p:nvSpPr>
              <p:cNvPr id="2208" name=""/>
              <p:cNvSpPr/>
              <p:nvPr/>
            </p:nvSpPr>
            <p:spPr>
              <a:xfrm>
                <a:off x="4500360" y="404136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9" name=""/>
              <p:cNvGrpSpPr/>
              <p:nvPr/>
            </p:nvGrpSpPr>
            <p:grpSpPr>
              <a:xfrm>
                <a:off x="4433760" y="3933720"/>
                <a:ext cx="134640" cy="153720"/>
                <a:chOff x="4433760" y="3933720"/>
                <a:chExt cx="134640" cy="15372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4435200" y="393372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4433760" y="401940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2" name=""/>
            <p:cNvSpPr/>
            <p:nvPr/>
          </p:nvSpPr>
          <p:spPr>
            <a:xfrm>
              <a:off x="4503600" y="412092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3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2216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1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2222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7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2228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2234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32080" y="3936960"/>
            <a:ext cx="3124440" cy="1568160"/>
            <a:chOff x="3232080" y="3936960"/>
            <a:chExt cx="3124440" cy="1568160"/>
          </a:xfrm>
        </p:grpSpPr>
        <p:sp>
          <p:nvSpPr>
            <p:cNvPr id="2240" name=""/>
            <p:cNvSpPr/>
            <p:nvPr/>
          </p:nvSpPr>
          <p:spPr>
            <a:xfrm flipV="1">
              <a:off x="3232080" y="3943080"/>
              <a:ext cx="1270080" cy="1562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495680" y="3936960"/>
              <a:ext cx="1860840" cy="704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232080" y="4635360"/>
            <a:ext cx="3117960" cy="876600"/>
            <a:chOff x="3232080" y="4635360"/>
            <a:chExt cx="3117960" cy="876600"/>
          </a:xfrm>
        </p:grpSpPr>
        <p:sp>
          <p:nvSpPr>
            <p:cNvPr id="2243" name=""/>
            <p:cNvSpPr/>
            <p:nvPr/>
          </p:nvSpPr>
          <p:spPr>
            <a:xfrm flipV="1">
              <a:off x="3232080" y="4724280"/>
              <a:ext cx="1117800" cy="78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4356000" y="4635360"/>
              <a:ext cx="1994040" cy="82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2246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2249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1486080" y="2546280"/>
            <a:ext cx="2621880" cy="1428840"/>
            <a:chOff x="1486080" y="2546280"/>
            <a:chExt cx="2621880" cy="1428840"/>
          </a:xfrm>
        </p:grpSpPr>
        <p:sp>
          <p:nvSpPr>
            <p:cNvPr id="2252" name=""/>
            <p:cNvSpPr/>
            <p:nvPr/>
          </p:nvSpPr>
          <p:spPr>
            <a:xfrm>
              <a:off x="1486080" y="2584440"/>
              <a:ext cx="1688760" cy="1390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3187440" y="2546280"/>
              <a:ext cx="920520" cy="1428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2255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2258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0" name=""/>
          <p:cNvGrpSpPr/>
          <p:nvPr/>
        </p:nvGrpSpPr>
        <p:grpSpPr>
          <a:xfrm>
            <a:off x="4238640" y="4721400"/>
            <a:ext cx="256680" cy="542520"/>
            <a:chOff x="4238640" y="4721400"/>
            <a:chExt cx="256680" cy="542520"/>
          </a:xfrm>
        </p:grpSpPr>
        <p:sp>
          <p:nvSpPr>
            <p:cNvPr id="2261" name=""/>
            <p:cNvSpPr/>
            <p:nvPr/>
          </p:nvSpPr>
          <p:spPr>
            <a:xfrm>
              <a:off x="4325760" y="50706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2" name=""/>
            <p:cNvGrpSpPr/>
            <p:nvPr/>
          </p:nvGrpSpPr>
          <p:grpSpPr>
            <a:xfrm>
              <a:off x="4238640" y="4721400"/>
              <a:ext cx="256680" cy="542520"/>
              <a:chOff x="4238640" y="4721400"/>
              <a:chExt cx="256680" cy="542520"/>
            </a:xfrm>
          </p:grpSpPr>
          <p:grpSp>
            <p:nvGrpSpPr>
              <p:cNvPr id="2263" name=""/>
              <p:cNvGrpSpPr/>
              <p:nvPr/>
            </p:nvGrpSpPr>
            <p:grpSpPr>
              <a:xfrm>
                <a:off x="4238640" y="4868640"/>
                <a:ext cx="256680" cy="395280"/>
                <a:chOff x="4238640" y="4868640"/>
                <a:chExt cx="256680" cy="395280"/>
              </a:xfrm>
            </p:grpSpPr>
            <p:sp>
              <p:nvSpPr>
                <p:cNvPr id="2264" name=""/>
                <p:cNvSpPr/>
                <p:nvPr/>
              </p:nvSpPr>
              <p:spPr>
                <a:xfrm flipH="1">
                  <a:off x="4238640" y="486864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4373640" y="487656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>
                  <a:off x="4339800" y="486864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7" name=""/>
              <p:cNvSpPr/>
              <p:nvPr/>
            </p:nvSpPr>
            <p:spPr>
              <a:xfrm>
                <a:off x="4286880" y="472140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286160" y="480636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9" name=""/>
          <p:cNvSpPr/>
          <p:nvPr/>
        </p:nvSpPr>
        <p:spPr>
          <a:xfrm>
            <a:off x="5753160" y="0"/>
            <a:ext cx="339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s from I to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66640" y="4075200"/>
            <a:ext cx="79963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ave a nice week 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1" name=""/>
          <p:cNvGrpSpPr/>
          <p:nvPr/>
        </p:nvGrpSpPr>
        <p:grpSpPr>
          <a:xfrm>
            <a:off x="856800" y="3159000"/>
            <a:ext cx="7410960" cy="635040"/>
            <a:chOff x="856800" y="3159000"/>
            <a:chExt cx="7410960" cy="635040"/>
          </a:xfrm>
        </p:grpSpPr>
        <p:sp>
          <p:nvSpPr>
            <p:cNvPr id="2272" name=""/>
            <p:cNvSpPr/>
            <p:nvPr/>
          </p:nvSpPr>
          <p:spPr>
            <a:xfrm>
              <a:off x="901800" y="3594240"/>
              <a:ext cx="652788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3" name="" descr=""/>
            <p:cNvPicPr/>
            <p:nvPr/>
          </p:nvPicPr>
          <p:blipFill>
            <a:blip r:embed="rId1"/>
            <a:stretch/>
          </p:blipFill>
          <p:spPr>
            <a:xfrm>
              <a:off x="7396200" y="3330720"/>
              <a:ext cx="87156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4" name=""/>
            <p:cNvSpPr/>
            <p:nvPr/>
          </p:nvSpPr>
          <p:spPr>
            <a:xfrm>
              <a:off x="856800" y="3159000"/>
              <a:ext cx="243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Thank you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58408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tellite Availabilit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tellite Availabilit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5667"/>
          <a:stretch/>
        </p:blipFill>
        <p:spPr>
          <a:xfrm>
            <a:off x="0" y="1220760"/>
            <a:ext cx="91440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tellite Availabilit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6397"/>
          <a:stretch/>
        </p:blipFill>
        <p:spPr>
          <a:xfrm>
            <a:off x="0" y="1158840"/>
            <a:ext cx="91440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tellite Availabilit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6095"/>
          <a:stretch/>
        </p:blipFill>
        <p:spPr>
          <a:xfrm>
            <a:off x="0" y="117648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tellite Availabilit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5951"/>
          <a:stretch/>
        </p:blipFill>
        <p:spPr>
          <a:xfrm>
            <a:off x="0" y="109692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tellite Availabilit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5951"/>
          <a:stretch/>
        </p:blipFill>
        <p:spPr>
          <a:xfrm>
            <a:off x="0" y="1081080"/>
            <a:ext cx="91440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03:39:04Z</dcterms:created>
  <dc:creator>Mustafa Tanışık</dc:creator>
  <dc:description/>
  <dc:language>en-US</dc:language>
  <cp:lastModifiedBy>celikn</cp:lastModifiedBy>
  <dcterms:modified xsi:type="dcterms:W3CDTF">2006-11-06T04:59:03Z</dcterms:modified>
  <cp:revision>27</cp:revision>
  <dc:subject/>
  <dc:title>Geodetic Network Design</dc:title>
</cp:coreProperties>
</file>