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7A8-0F78-4984-BAC9-8D7C7A16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484-45B0-441F-A294-A33E9E32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941-20D2-42CF-88C5-6AC72C79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527-44C2-497D-8A67-BAB78EB7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32A-8169-4C36-8333-0FF60498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E65-16D8-4EFA-AC59-075711FB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DD6-2DDA-403D-BC12-72F327C4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06A-4EE3-40F9-A22D-232C3E72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B5C-BF3B-48B2-8908-11E70AAB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713-A2A7-4C8D-84D4-040C0707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BE1-21A2-4F97-86AA-F6F5035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C09-BB5A-4DCD-AE28-30ADB7E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4BC-86F7-4799-A950-9AB9906A2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760" y="468360"/>
            <a:ext cx="895824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GEODETIC NETWORK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552400"/>
            <a:ext cx="914400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ssoc. Prof.</a:t>
            </a:r>
            <a:r>
              <a:rPr b="1" lang="tr-T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r.</a:t>
            </a:r>
            <a:r>
              <a:rPr b="1" lang="tr-T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ahmi Nurhan ÇELİ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ITU Departme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Geodesy &amp; Photogram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ivision of Geod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el: 0212-28538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-mail: celikn@itu.edu.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ttp://atlas.cc.itu.edu.tr/~celi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http://www.ins.itu.edu.tr/jeodezi</a:t>
            </a:r>
            <a:r>
              <a:rPr b="1" lang="tr-TR" sz="2400" spc="-1" strike="noStrike">
                <a:solidFill>
                  <a:srgbClr val="ffff00"/>
                </a:solidFill>
                <a:latin typeface="Comic Sans MS"/>
              </a:rPr>
              <a:t>a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6120" y="205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PS NETWORK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2360" y="1388880"/>
            <a:ext cx="871056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erarchy of GP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- Order Networks: Global &amp; Regional Networks (ITRF, EUREF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- Order Networks: National networks connected to Glob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- Order Networks: Densificated Networks of B Ord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- Order Networks:  First step of B Network Densification. Baseline length varies from 15 to 20 k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- Order Networks: Second step of B Network Densification. Control Station Densification is 15 km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Control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- Order Networks: Third step of B Network Densification. Control Station Densification is 5 km</a:t>
            </a: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Control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- Order Networks: Fourth step of B Network Densification. Traverse stations and traverse netwo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0280" y="272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PS NETWORK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048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pendent Baseline Solu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 = n-1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: Number of independent baseline solution in a sess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: Number of receivers used in a sessio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necting to Higher Order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14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20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16560" y="4960800"/>
            <a:ext cx="7488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38560" y="5659560"/>
            <a:ext cx="612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114300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36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42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48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54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96040" y="57657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TUT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45640" y="982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TUT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73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79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16560" y="4960800"/>
            <a:ext cx="7488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38560" y="5659560"/>
            <a:ext cx="612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114300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95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201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207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213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96040" y="57657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TUT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45640" y="982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TUT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20880" y="27795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37040" y="48960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82440" y="28670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235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241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16560" y="4960800"/>
            <a:ext cx="7488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38560" y="5659560"/>
            <a:ext cx="612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114300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257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263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269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275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96040" y="576576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TUT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45640" y="9828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TUT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49280" y="32497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20880" y="277956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37040" y="48960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52600" y="290844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82440" y="286704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A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655720" y="416736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74680" y="49546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49560" y="34034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11520" y="19400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62240" y="20048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90600" y="39751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39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800280" y="36385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umber of Receivers Available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4 Dual Frequency GPS Rece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306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312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318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321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327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330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336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339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345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346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0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34120" y="114300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353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359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365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371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67040" y="513252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65240" y="23763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1880" y="231300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390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399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405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411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414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420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423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429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432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438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439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3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5334120" y="1143000"/>
            <a:ext cx="0" cy="1144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446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452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458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464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7040" y="513252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65240" y="23763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01880" y="231300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486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495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501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507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510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5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516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519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4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525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527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528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534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535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9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541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547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553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559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576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577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1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4930920" y="75888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65240" y="23763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14840" y="2297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25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What is the Mission of Geodes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ontrol Surv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Geodetic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Horizontal Contro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ertical Contro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urkish National 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Classification of Geodeti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tional Geodeti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Reconnaissance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ogress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umbering Control S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tion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ation Description Ske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ffects on Geodetic Network Design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46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49160" y="5968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597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603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609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612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5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618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621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627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630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5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636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637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1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643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649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655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661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678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30920" y="75888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65240" y="23763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14840" y="2297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703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709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715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718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1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3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724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727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733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735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736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1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742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743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4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749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750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4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761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767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773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779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30920" y="75888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796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806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812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818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821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6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827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830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3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5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836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838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839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2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4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845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846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7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0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852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853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7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865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871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877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883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4952880" y="20574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286240" y="353376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930920" y="75888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962680" y="4448160"/>
            <a:ext cx="809640" cy="80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900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910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916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922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925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931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933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934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9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940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943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8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949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950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4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956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957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1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969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975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981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987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999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001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002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5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7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008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010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011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4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"/>
          <p:cNvSpPr/>
          <p:nvPr/>
        </p:nvSpPr>
        <p:spPr>
          <a:xfrm>
            <a:off x="5151600" y="909720"/>
            <a:ext cx="374400" cy="37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08520" y="1635120"/>
            <a:ext cx="37476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21360" y="308772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022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9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032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038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044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046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047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0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2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053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055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056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1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062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3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064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065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8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0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071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072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3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6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078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079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3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091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097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103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109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28800" y="3352680"/>
            <a:ext cx="74520" cy="74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121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123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7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9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130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132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133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6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8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139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142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5151600" y="909720"/>
            <a:ext cx="374400" cy="37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808520" y="1635120"/>
            <a:ext cx="37476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121360" y="308772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150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160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166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172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174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175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8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181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2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183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184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9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190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1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192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193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6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8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199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200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1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4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206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207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8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1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219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225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231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237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248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9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251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4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6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257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259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260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3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5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266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269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272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274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6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278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280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1281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4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6" name=""/>
          <p:cNvSpPr/>
          <p:nvPr/>
        </p:nvSpPr>
        <p:spPr>
          <a:xfrm>
            <a:off x="1284120" y="24685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692360" y="287640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446640" y="183204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292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9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302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308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314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316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317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0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2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323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4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325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326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9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332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334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335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0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341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342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6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348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349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0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3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4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361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367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373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379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390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1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393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6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8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399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0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401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402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5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7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408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411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414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416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8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1420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1423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426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428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1429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2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4" name=""/>
          <p:cNvSpPr/>
          <p:nvPr/>
        </p:nvSpPr>
        <p:spPr>
          <a:xfrm>
            <a:off x="1284120" y="24685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692360" y="287640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46640" y="1832040"/>
            <a:ext cx="374400" cy="3747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9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440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7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450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456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462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3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464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465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8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0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471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473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474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7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9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480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482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483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6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8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489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490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1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4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5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496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497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8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499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1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2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509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515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521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527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2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538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9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540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541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4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6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547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549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550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3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5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556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559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562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3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564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6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1568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1571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574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576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1577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0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2" name=""/>
          <p:cNvGrpSpPr/>
          <p:nvPr/>
        </p:nvGrpSpPr>
        <p:grpSpPr>
          <a:xfrm>
            <a:off x="3065400" y="3976560"/>
            <a:ext cx="257040" cy="542520"/>
            <a:chOff x="3065400" y="3976560"/>
            <a:chExt cx="257040" cy="542520"/>
          </a:xfrm>
        </p:grpSpPr>
        <p:sp>
          <p:nvSpPr>
            <p:cNvPr id="1583" name=""/>
            <p:cNvSpPr/>
            <p:nvPr/>
          </p:nvSpPr>
          <p:spPr>
            <a:xfrm>
              <a:off x="3135240" y="429912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4" name=""/>
            <p:cNvGrpSpPr/>
            <p:nvPr/>
          </p:nvGrpSpPr>
          <p:grpSpPr>
            <a:xfrm>
              <a:off x="3065400" y="3976560"/>
              <a:ext cx="257040" cy="542520"/>
              <a:chOff x="3065400" y="3976560"/>
              <a:chExt cx="257040" cy="542520"/>
            </a:xfrm>
          </p:grpSpPr>
          <p:grpSp>
            <p:nvGrpSpPr>
              <p:cNvPr id="1585" name=""/>
              <p:cNvGrpSpPr/>
              <p:nvPr/>
            </p:nvGrpSpPr>
            <p:grpSpPr>
              <a:xfrm>
                <a:off x="3065400" y="4123800"/>
                <a:ext cx="257040" cy="395280"/>
                <a:chOff x="3065400" y="4123800"/>
                <a:chExt cx="257040" cy="395280"/>
              </a:xfrm>
            </p:grpSpPr>
            <p:sp>
              <p:nvSpPr>
                <p:cNvPr id="1586" name=""/>
                <p:cNvSpPr/>
                <p:nvPr/>
              </p:nvSpPr>
              <p:spPr>
                <a:xfrm flipH="1">
                  <a:off x="3065400" y="41238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200760" y="41317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>
                  <a:off x="3166560" y="41238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9" name=""/>
              <p:cNvSpPr/>
              <p:nvPr/>
            </p:nvSpPr>
            <p:spPr>
              <a:xfrm>
                <a:off x="3114000" y="39765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112920" y="40615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1" name=""/>
          <p:cNvSpPr/>
          <p:nvPr/>
        </p:nvSpPr>
        <p:spPr>
          <a:xfrm>
            <a:off x="1284120" y="24685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005280" y="3857760"/>
            <a:ext cx="37440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5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596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7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3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606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1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612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618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9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620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621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4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6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627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8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629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630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3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5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636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7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638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639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2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4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645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646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7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0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652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653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4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655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7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8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4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665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671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677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683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8" name=""/>
          <p:cNvSpPr/>
          <p:nvPr/>
        </p:nvSpPr>
        <p:spPr>
          <a:xfrm>
            <a:off x="4100400" y="284004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135240" y="429912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503600" y="4121280"/>
            <a:ext cx="6480" cy="120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325760" y="50706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694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696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697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0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2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703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4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705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706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9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1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712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715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718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9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720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2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3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1724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1727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730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1733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6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8" name=""/>
          <p:cNvGrpSpPr/>
          <p:nvPr/>
        </p:nvGrpSpPr>
        <p:grpSpPr>
          <a:xfrm>
            <a:off x="3065400" y="3976560"/>
            <a:ext cx="257040" cy="542520"/>
            <a:chOff x="3065400" y="3976560"/>
            <a:chExt cx="257040" cy="542520"/>
          </a:xfrm>
        </p:grpSpPr>
        <p:sp>
          <p:nvSpPr>
            <p:cNvPr id="1739" name=""/>
            <p:cNvSpPr/>
            <p:nvPr/>
          </p:nvSpPr>
          <p:spPr>
            <a:xfrm>
              <a:off x="3135240" y="429912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3065400" y="3976560"/>
              <a:ext cx="257040" cy="542520"/>
              <a:chOff x="3065400" y="3976560"/>
              <a:chExt cx="257040" cy="542520"/>
            </a:xfrm>
          </p:grpSpPr>
          <p:grpSp>
            <p:nvGrpSpPr>
              <p:cNvPr id="1741" name=""/>
              <p:cNvGrpSpPr/>
              <p:nvPr/>
            </p:nvGrpSpPr>
            <p:grpSpPr>
              <a:xfrm>
                <a:off x="3065400" y="4123800"/>
                <a:ext cx="257040" cy="395280"/>
                <a:chOff x="3065400" y="4123800"/>
                <a:chExt cx="257040" cy="395280"/>
              </a:xfrm>
            </p:grpSpPr>
            <p:sp>
              <p:nvSpPr>
                <p:cNvPr id="1742" name=""/>
                <p:cNvSpPr/>
                <p:nvPr/>
              </p:nvSpPr>
              <p:spPr>
                <a:xfrm flipH="1">
                  <a:off x="3065400" y="41238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3200760" y="41317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 flipH="1">
                  <a:off x="3166560" y="41238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5" name=""/>
              <p:cNvSpPr/>
              <p:nvPr/>
            </p:nvSpPr>
            <p:spPr>
              <a:xfrm>
                <a:off x="3114000" y="39765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112920" y="40615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7" name=""/>
          <p:cNvGrpSpPr/>
          <p:nvPr/>
        </p:nvGrpSpPr>
        <p:grpSpPr>
          <a:xfrm>
            <a:off x="1486080" y="2546280"/>
            <a:ext cx="2621880" cy="1428840"/>
            <a:chOff x="1486080" y="2546280"/>
            <a:chExt cx="2621880" cy="1428840"/>
          </a:xfrm>
        </p:grpSpPr>
        <p:sp>
          <p:nvSpPr>
            <p:cNvPr id="1748" name=""/>
            <p:cNvSpPr/>
            <p:nvPr/>
          </p:nvSpPr>
          <p:spPr>
            <a:xfrm>
              <a:off x="1486080" y="2584440"/>
              <a:ext cx="1688760" cy="1390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3187440" y="2546280"/>
              <a:ext cx="920520" cy="14288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1284120" y="24685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933720" y="241920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005280" y="3857760"/>
            <a:ext cx="37440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4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755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6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2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765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0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771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777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8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779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780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3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5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786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7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788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789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2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4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795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6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797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798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1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3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804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5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806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807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0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2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813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814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5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8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820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1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822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4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5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826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7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828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1829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2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4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1835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1836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1838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0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3065400" y="3976560"/>
            <a:ext cx="257040" cy="542520"/>
            <a:chOff x="3065400" y="3976560"/>
            <a:chExt cx="257040" cy="542520"/>
          </a:xfrm>
        </p:grpSpPr>
        <p:sp>
          <p:nvSpPr>
            <p:cNvPr id="1842" name=""/>
            <p:cNvSpPr/>
            <p:nvPr/>
          </p:nvSpPr>
          <p:spPr>
            <a:xfrm>
              <a:off x="3135240" y="429912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3" name=""/>
            <p:cNvGrpSpPr/>
            <p:nvPr/>
          </p:nvGrpSpPr>
          <p:grpSpPr>
            <a:xfrm>
              <a:off x="3065400" y="3976560"/>
              <a:ext cx="257040" cy="542520"/>
              <a:chOff x="3065400" y="3976560"/>
              <a:chExt cx="257040" cy="542520"/>
            </a:xfrm>
          </p:grpSpPr>
          <p:grpSp>
            <p:nvGrpSpPr>
              <p:cNvPr id="1844" name=""/>
              <p:cNvGrpSpPr/>
              <p:nvPr/>
            </p:nvGrpSpPr>
            <p:grpSpPr>
              <a:xfrm>
                <a:off x="3065400" y="4123800"/>
                <a:ext cx="257040" cy="395280"/>
                <a:chOff x="3065400" y="4123800"/>
                <a:chExt cx="257040" cy="395280"/>
              </a:xfrm>
            </p:grpSpPr>
            <p:sp>
              <p:nvSpPr>
                <p:cNvPr id="1845" name=""/>
                <p:cNvSpPr/>
                <p:nvPr/>
              </p:nvSpPr>
              <p:spPr>
                <a:xfrm flipH="1">
                  <a:off x="3065400" y="41238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3200760" y="41317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>
                  <a:off x="3166560" y="41238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8" name=""/>
              <p:cNvSpPr/>
              <p:nvPr/>
            </p:nvSpPr>
            <p:spPr>
              <a:xfrm>
                <a:off x="3114000" y="39765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112920" y="40615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0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2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1853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4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1855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1856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9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4433760" y="3933720"/>
            <a:ext cx="134640" cy="307800"/>
            <a:chOff x="4433760" y="3933720"/>
            <a:chExt cx="134640" cy="307800"/>
          </a:xfrm>
        </p:grpSpPr>
        <p:grpSp>
          <p:nvGrpSpPr>
            <p:cNvPr id="1864" name=""/>
            <p:cNvGrpSpPr/>
            <p:nvPr/>
          </p:nvGrpSpPr>
          <p:grpSpPr>
            <a:xfrm>
              <a:off x="4433760" y="3933720"/>
              <a:ext cx="134640" cy="215280"/>
              <a:chOff x="4433760" y="3933720"/>
              <a:chExt cx="134640" cy="215280"/>
            </a:xfrm>
          </p:grpSpPr>
          <p:sp>
            <p:nvSpPr>
              <p:cNvPr id="1865" name=""/>
              <p:cNvSpPr/>
              <p:nvPr/>
            </p:nvSpPr>
            <p:spPr>
              <a:xfrm>
                <a:off x="4500360" y="404136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6" name=""/>
              <p:cNvGrpSpPr/>
              <p:nvPr/>
            </p:nvGrpSpPr>
            <p:grpSpPr>
              <a:xfrm>
                <a:off x="4433760" y="3933720"/>
                <a:ext cx="134640" cy="153720"/>
                <a:chOff x="4433760" y="3933720"/>
                <a:chExt cx="134640" cy="153720"/>
              </a:xfrm>
            </p:grpSpPr>
            <p:sp>
              <p:nvSpPr>
                <p:cNvPr id="1867" name=""/>
                <p:cNvSpPr/>
                <p:nvPr/>
              </p:nvSpPr>
              <p:spPr>
                <a:xfrm>
                  <a:off x="4435200" y="393372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4433760" y="401940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9" name=""/>
            <p:cNvSpPr/>
            <p:nvPr/>
          </p:nvSpPr>
          <p:spPr>
            <a:xfrm>
              <a:off x="4503600" y="412092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0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1873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1879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1885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1891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1897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1900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1486080" y="2546280"/>
            <a:ext cx="2621880" cy="1428840"/>
            <a:chOff x="1486080" y="2546280"/>
            <a:chExt cx="2621880" cy="1428840"/>
          </a:xfrm>
        </p:grpSpPr>
        <p:sp>
          <p:nvSpPr>
            <p:cNvPr id="1903" name=""/>
            <p:cNvSpPr/>
            <p:nvPr/>
          </p:nvSpPr>
          <p:spPr>
            <a:xfrm>
              <a:off x="1486080" y="2584440"/>
              <a:ext cx="1688760" cy="1390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3187440" y="2546280"/>
              <a:ext cx="920520" cy="1428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1906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1909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4238640" y="4721400"/>
            <a:ext cx="256680" cy="542520"/>
            <a:chOff x="4238640" y="4721400"/>
            <a:chExt cx="256680" cy="542520"/>
          </a:xfrm>
        </p:grpSpPr>
        <p:sp>
          <p:nvSpPr>
            <p:cNvPr id="1912" name=""/>
            <p:cNvSpPr/>
            <p:nvPr/>
          </p:nvSpPr>
          <p:spPr>
            <a:xfrm>
              <a:off x="4325760" y="50706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3" name=""/>
            <p:cNvGrpSpPr/>
            <p:nvPr/>
          </p:nvGrpSpPr>
          <p:grpSpPr>
            <a:xfrm>
              <a:off x="4238640" y="4721400"/>
              <a:ext cx="256680" cy="542520"/>
              <a:chOff x="4238640" y="4721400"/>
              <a:chExt cx="256680" cy="542520"/>
            </a:xfrm>
          </p:grpSpPr>
          <p:grpSp>
            <p:nvGrpSpPr>
              <p:cNvPr id="1914" name=""/>
              <p:cNvGrpSpPr/>
              <p:nvPr/>
            </p:nvGrpSpPr>
            <p:grpSpPr>
              <a:xfrm>
                <a:off x="4238640" y="4868640"/>
                <a:ext cx="256680" cy="395280"/>
                <a:chOff x="4238640" y="4868640"/>
                <a:chExt cx="256680" cy="395280"/>
              </a:xfrm>
            </p:grpSpPr>
            <p:sp>
              <p:nvSpPr>
                <p:cNvPr id="1915" name=""/>
                <p:cNvSpPr/>
                <p:nvPr/>
              </p:nvSpPr>
              <p:spPr>
                <a:xfrm flipH="1">
                  <a:off x="4238640" y="486864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4373640" y="487656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flipH="1">
                  <a:off x="4339800" y="486864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8" name=""/>
              <p:cNvSpPr/>
              <p:nvPr/>
            </p:nvSpPr>
            <p:spPr>
              <a:xfrm>
                <a:off x="4286880" y="472140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286160" y="480636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0" name=""/>
          <p:cNvSpPr/>
          <p:nvPr/>
        </p:nvSpPr>
        <p:spPr>
          <a:xfrm>
            <a:off x="3060720" y="535464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154560" y="45133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317840" y="3814920"/>
            <a:ext cx="37476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168800" y="4602240"/>
            <a:ext cx="37476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25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Direction Ob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djustment of Observations At A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Axis of Theodol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Errors of Theodol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Natural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Personal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ommon Mist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Eccentric Measurements for Direction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Distance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eductions for Distance 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Positioning with Intersection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Positioning with Resection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oordinating Ground Station of High Control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Precise Trave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Vertical Contro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53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49160" y="5968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5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1926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7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1936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1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1942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7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1948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9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1950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1951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4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56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1957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8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1959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1960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3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5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1966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1968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1969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2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4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1975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6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1977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1978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1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3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1984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1985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6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1987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9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1991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2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1993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95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1997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8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1999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2000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3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5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2006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2007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8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2009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11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2" name=""/>
          <p:cNvGrpSpPr/>
          <p:nvPr/>
        </p:nvGrpSpPr>
        <p:grpSpPr>
          <a:xfrm>
            <a:off x="3065400" y="3976560"/>
            <a:ext cx="257040" cy="542520"/>
            <a:chOff x="3065400" y="3976560"/>
            <a:chExt cx="257040" cy="542520"/>
          </a:xfrm>
        </p:grpSpPr>
        <p:sp>
          <p:nvSpPr>
            <p:cNvPr id="2013" name=""/>
            <p:cNvSpPr/>
            <p:nvPr/>
          </p:nvSpPr>
          <p:spPr>
            <a:xfrm>
              <a:off x="3135240" y="429912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4" name=""/>
            <p:cNvGrpSpPr/>
            <p:nvPr/>
          </p:nvGrpSpPr>
          <p:grpSpPr>
            <a:xfrm>
              <a:off x="3065400" y="3976560"/>
              <a:ext cx="257040" cy="542520"/>
              <a:chOff x="3065400" y="3976560"/>
              <a:chExt cx="257040" cy="542520"/>
            </a:xfrm>
          </p:grpSpPr>
          <p:grpSp>
            <p:nvGrpSpPr>
              <p:cNvPr id="2015" name=""/>
              <p:cNvGrpSpPr/>
              <p:nvPr/>
            </p:nvGrpSpPr>
            <p:grpSpPr>
              <a:xfrm>
                <a:off x="3065400" y="4123800"/>
                <a:ext cx="257040" cy="395280"/>
                <a:chOff x="3065400" y="4123800"/>
                <a:chExt cx="257040" cy="395280"/>
              </a:xfrm>
            </p:grpSpPr>
            <p:sp>
              <p:nvSpPr>
                <p:cNvPr id="2016" name=""/>
                <p:cNvSpPr/>
                <p:nvPr/>
              </p:nvSpPr>
              <p:spPr>
                <a:xfrm flipH="1">
                  <a:off x="3065400" y="41238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3200760" y="41317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flipH="1">
                  <a:off x="3166560" y="41238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9" name=""/>
              <p:cNvSpPr/>
              <p:nvPr/>
            </p:nvSpPr>
            <p:spPr>
              <a:xfrm>
                <a:off x="3114000" y="39765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3112920" y="40615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1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2024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5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2026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2027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0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2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4" name=""/>
          <p:cNvGrpSpPr/>
          <p:nvPr/>
        </p:nvGrpSpPr>
        <p:grpSpPr>
          <a:xfrm>
            <a:off x="4433760" y="3933720"/>
            <a:ext cx="134640" cy="307800"/>
            <a:chOff x="4433760" y="3933720"/>
            <a:chExt cx="134640" cy="307800"/>
          </a:xfrm>
        </p:grpSpPr>
        <p:grpSp>
          <p:nvGrpSpPr>
            <p:cNvPr id="2035" name=""/>
            <p:cNvGrpSpPr/>
            <p:nvPr/>
          </p:nvGrpSpPr>
          <p:grpSpPr>
            <a:xfrm>
              <a:off x="4433760" y="3933720"/>
              <a:ext cx="134640" cy="215280"/>
              <a:chOff x="4433760" y="3933720"/>
              <a:chExt cx="134640" cy="215280"/>
            </a:xfrm>
          </p:grpSpPr>
          <p:sp>
            <p:nvSpPr>
              <p:cNvPr id="2036" name=""/>
              <p:cNvSpPr/>
              <p:nvPr/>
            </p:nvSpPr>
            <p:spPr>
              <a:xfrm>
                <a:off x="4500360" y="404136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7" name=""/>
              <p:cNvGrpSpPr/>
              <p:nvPr/>
            </p:nvGrpSpPr>
            <p:grpSpPr>
              <a:xfrm>
                <a:off x="4433760" y="3933720"/>
                <a:ext cx="134640" cy="153720"/>
                <a:chOff x="4433760" y="3933720"/>
                <a:chExt cx="134640" cy="15372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4435200" y="393372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4433760" y="401940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0" name=""/>
            <p:cNvSpPr/>
            <p:nvPr/>
          </p:nvSpPr>
          <p:spPr>
            <a:xfrm>
              <a:off x="4503600" y="412092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3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2044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2050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2056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2062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3232080" y="3936960"/>
            <a:ext cx="3124440" cy="1568160"/>
            <a:chOff x="3232080" y="3936960"/>
            <a:chExt cx="3124440" cy="1568160"/>
          </a:xfrm>
        </p:grpSpPr>
        <p:sp>
          <p:nvSpPr>
            <p:cNvPr id="2068" name=""/>
            <p:cNvSpPr/>
            <p:nvPr/>
          </p:nvSpPr>
          <p:spPr>
            <a:xfrm flipV="1">
              <a:off x="3232080" y="3943080"/>
              <a:ext cx="1270080" cy="15620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495680" y="3936960"/>
              <a:ext cx="1860840" cy="704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3232080" y="4635360"/>
            <a:ext cx="3117960" cy="876600"/>
            <a:chOff x="3232080" y="4635360"/>
            <a:chExt cx="3117960" cy="876600"/>
          </a:xfrm>
        </p:grpSpPr>
        <p:sp>
          <p:nvSpPr>
            <p:cNvPr id="2071" name=""/>
            <p:cNvSpPr/>
            <p:nvPr/>
          </p:nvSpPr>
          <p:spPr>
            <a:xfrm flipV="1">
              <a:off x="3232080" y="4724280"/>
              <a:ext cx="1117800" cy="7876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V="1">
              <a:off x="4356000" y="4635360"/>
              <a:ext cx="1994040" cy="8280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2074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2077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1486080" y="2546280"/>
            <a:ext cx="2621880" cy="1428840"/>
            <a:chOff x="1486080" y="2546280"/>
            <a:chExt cx="2621880" cy="1428840"/>
          </a:xfrm>
        </p:grpSpPr>
        <p:sp>
          <p:nvSpPr>
            <p:cNvPr id="2080" name=""/>
            <p:cNvSpPr/>
            <p:nvPr/>
          </p:nvSpPr>
          <p:spPr>
            <a:xfrm>
              <a:off x="1486080" y="2584440"/>
              <a:ext cx="1688760" cy="1390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3187440" y="2546280"/>
              <a:ext cx="920520" cy="1428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2083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2086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4238640" y="4721400"/>
            <a:ext cx="256680" cy="542520"/>
            <a:chOff x="4238640" y="4721400"/>
            <a:chExt cx="256680" cy="542520"/>
          </a:xfrm>
        </p:grpSpPr>
        <p:sp>
          <p:nvSpPr>
            <p:cNvPr id="2089" name=""/>
            <p:cNvSpPr/>
            <p:nvPr/>
          </p:nvSpPr>
          <p:spPr>
            <a:xfrm>
              <a:off x="4325760" y="50706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0" name=""/>
            <p:cNvGrpSpPr/>
            <p:nvPr/>
          </p:nvGrpSpPr>
          <p:grpSpPr>
            <a:xfrm>
              <a:off x="4238640" y="4721400"/>
              <a:ext cx="256680" cy="542520"/>
              <a:chOff x="4238640" y="4721400"/>
              <a:chExt cx="256680" cy="542520"/>
            </a:xfrm>
          </p:grpSpPr>
          <p:grpSp>
            <p:nvGrpSpPr>
              <p:cNvPr id="2091" name=""/>
              <p:cNvGrpSpPr/>
              <p:nvPr/>
            </p:nvGrpSpPr>
            <p:grpSpPr>
              <a:xfrm>
                <a:off x="4238640" y="4868640"/>
                <a:ext cx="256680" cy="395280"/>
                <a:chOff x="4238640" y="4868640"/>
                <a:chExt cx="256680" cy="395280"/>
              </a:xfrm>
            </p:grpSpPr>
            <p:sp>
              <p:nvSpPr>
                <p:cNvPr id="2092" name=""/>
                <p:cNvSpPr/>
                <p:nvPr/>
              </p:nvSpPr>
              <p:spPr>
                <a:xfrm flipH="1">
                  <a:off x="4238640" y="486864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4373640" y="487656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>
                  <a:off x="4339800" y="486864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5" name=""/>
              <p:cNvSpPr/>
              <p:nvPr/>
            </p:nvSpPr>
            <p:spPr>
              <a:xfrm>
                <a:off x="4286880" y="472140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4286160" y="480636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7" name=""/>
          <p:cNvSpPr/>
          <p:nvPr/>
        </p:nvSpPr>
        <p:spPr>
          <a:xfrm>
            <a:off x="3060720" y="535464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154560" y="4513320"/>
            <a:ext cx="374760" cy="37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317840" y="3814920"/>
            <a:ext cx="37476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168800" y="4602240"/>
            <a:ext cx="374760" cy="3744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972480" y="0"/>
            <a:ext cx="217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2" name=""/>
          <p:cNvGrpSpPr/>
          <p:nvPr/>
        </p:nvGrpSpPr>
        <p:grpSpPr>
          <a:xfrm>
            <a:off x="0" y="457200"/>
            <a:ext cx="9144000" cy="6060960"/>
            <a:chOff x="0" y="457200"/>
            <a:chExt cx="9144000" cy="6060960"/>
          </a:xfrm>
        </p:grpSpPr>
        <p:pic>
          <p:nvPicPr>
            <p:cNvPr id="2103" name="" descr="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9144000" cy="60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4" name=""/>
            <p:cNvSpPr/>
            <p:nvPr/>
          </p:nvSpPr>
          <p:spPr>
            <a:xfrm>
              <a:off x="3276720" y="1219320"/>
              <a:ext cx="9903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343400" y="83808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5800" y="4114800"/>
              <a:ext cx="9907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05720" y="388620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267080" y="1523880"/>
              <a:ext cx="355680" cy="235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1701720" y="3739680"/>
              <a:ext cx="1181160" cy="40644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0" name=""/>
          <p:cNvSpPr/>
          <p:nvPr/>
        </p:nvSpPr>
        <p:spPr>
          <a:xfrm>
            <a:off x="5334120" y="1149480"/>
            <a:ext cx="272880" cy="183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1481040" y="985320"/>
            <a:ext cx="3849840" cy="159732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2" name=""/>
          <p:cNvGrpSpPr/>
          <p:nvPr/>
        </p:nvGrpSpPr>
        <p:grpSpPr>
          <a:xfrm>
            <a:off x="2698920" y="2790720"/>
            <a:ext cx="123480" cy="523800"/>
            <a:chOff x="2698920" y="2790720"/>
            <a:chExt cx="123480" cy="523800"/>
          </a:xfrm>
        </p:grpSpPr>
        <p:sp>
          <p:nvSpPr>
            <p:cNvPr id="2113" name=""/>
            <p:cNvSpPr/>
            <p:nvPr/>
          </p:nvSpPr>
          <p:spPr>
            <a:xfrm>
              <a:off x="2768760" y="3149280"/>
              <a:ext cx="0" cy="1652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698920" y="2790720"/>
              <a:ext cx="123480" cy="358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 flipV="1">
              <a:off x="2744280" y="2886480"/>
              <a:ext cx="28800" cy="234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2756520" y="2941920"/>
              <a:ext cx="45360" cy="687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 flipV="1">
              <a:off x="2723400" y="3025080"/>
              <a:ext cx="45360" cy="410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2505240" y="2921040"/>
            <a:ext cx="199800" cy="504360"/>
            <a:chOff x="2505240" y="2921040"/>
            <a:chExt cx="199800" cy="504360"/>
          </a:xfrm>
        </p:grpSpPr>
        <p:sp>
          <p:nvSpPr>
            <p:cNvPr id="2119" name=""/>
            <p:cNvSpPr/>
            <p:nvPr/>
          </p:nvSpPr>
          <p:spPr>
            <a:xfrm>
              <a:off x="2618640" y="3266280"/>
              <a:ext cx="0" cy="159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505240" y="2921040"/>
              <a:ext cx="199800" cy="3452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flipV="1">
              <a:off x="2577960" y="3013560"/>
              <a:ext cx="46440" cy="225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2598480" y="3066840"/>
              <a:ext cx="73080" cy="662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 flipV="1">
              <a:off x="2544840" y="3146760"/>
              <a:ext cx="73440" cy="39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4" name=""/>
          <p:cNvGrpSpPr/>
          <p:nvPr/>
        </p:nvGrpSpPr>
        <p:grpSpPr>
          <a:xfrm>
            <a:off x="1362240" y="2571840"/>
            <a:ext cx="256680" cy="542520"/>
            <a:chOff x="1362240" y="2571840"/>
            <a:chExt cx="256680" cy="542520"/>
          </a:xfrm>
        </p:grpSpPr>
        <p:sp>
          <p:nvSpPr>
            <p:cNvPr id="2125" name=""/>
            <p:cNvSpPr/>
            <p:nvPr/>
          </p:nvSpPr>
          <p:spPr>
            <a:xfrm>
              <a:off x="1452600" y="290844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6" name=""/>
            <p:cNvGrpSpPr/>
            <p:nvPr/>
          </p:nvGrpSpPr>
          <p:grpSpPr>
            <a:xfrm>
              <a:off x="1362240" y="2571840"/>
              <a:ext cx="256680" cy="542520"/>
              <a:chOff x="1362240" y="2571840"/>
              <a:chExt cx="256680" cy="542520"/>
            </a:xfrm>
          </p:grpSpPr>
          <p:grpSp>
            <p:nvGrpSpPr>
              <p:cNvPr id="2127" name=""/>
              <p:cNvGrpSpPr/>
              <p:nvPr/>
            </p:nvGrpSpPr>
            <p:grpSpPr>
              <a:xfrm>
                <a:off x="1362240" y="2719080"/>
                <a:ext cx="256680" cy="395280"/>
                <a:chOff x="1362240" y="2719080"/>
                <a:chExt cx="256680" cy="395280"/>
              </a:xfrm>
            </p:grpSpPr>
            <p:sp>
              <p:nvSpPr>
                <p:cNvPr id="2128" name=""/>
                <p:cNvSpPr/>
                <p:nvPr/>
              </p:nvSpPr>
              <p:spPr>
                <a:xfrm flipH="1">
                  <a:off x="1362240" y="271908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1497240" y="272700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H="1">
                  <a:off x="1463400" y="271908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1" name=""/>
              <p:cNvSpPr/>
              <p:nvPr/>
            </p:nvSpPr>
            <p:spPr>
              <a:xfrm>
                <a:off x="1410480" y="257184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1409760" y="26568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3" name=""/>
          <p:cNvGrpSpPr/>
          <p:nvPr/>
        </p:nvGrpSpPr>
        <p:grpSpPr>
          <a:xfrm>
            <a:off x="4876920" y="1743120"/>
            <a:ext cx="256680" cy="542520"/>
            <a:chOff x="4876920" y="1743120"/>
            <a:chExt cx="256680" cy="542520"/>
          </a:xfrm>
        </p:grpSpPr>
        <p:sp>
          <p:nvSpPr>
            <p:cNvPr id="2134" name=""/>
            <p:cNvSpPr/>
            <p:nvPr/>
          </p:nvSpPr>
          <p:spPr>
            <a:xfrm>
              <a:off x="4952880" y="20574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5" name=""/>
            <p:cNvGrpSpPr/>
            <p:nvPr/>
          </p:nvGrpSpPr>
          <p:grpSpPr>
            <a:xfrm>
              <a:off x="4876920" y="1743120"/>
              <a:ext cx="256680" cy="542520"/>
              <a:chOff x="4876920" y="1743120"/>
              <a:chExt cx="256680" cy="542520"/>
            </a:xfrm>
          </p:grpSpPr>
          <p:grpSp>
            <p:nvGrpSpPr>
              <p:cNvPr id="2136" name=""/>
              <p:cNvGrpSpPr/>
              <p:nvPr/>
            </p:nvGrpSpPr>
            <p:grpSpPr>
              <a:xfrm>
                <a:off x="4876920" y="1890360"/>
                <a:ext cx="256680" cy="395280"/>
                <a:chOff x="4876920" y="1890360"/>
                <a:chExt cx="256680" cy="395280"/>
              </a:xfrm>
            </p:grpSpPr>
            <p:sp>
              <p:nvSpPr>
                <p:cNvPr id="2137" name=""/>
                <p:cNvSpPr/>
                <p:nvPr/>
              </p:nvSpPr>
              <p:spPr>
                <a:xfrm flipH="1">
                  <a:off x="4876920" y="18903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5011920" y="18982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>
                  <a:off x="4978080" y="18903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0" name=""/>
              <p:cNvSpPr/>
              <p:nvPr/>
            </p:nvSpPr>
            <p:spPr>
              <a:xfrm>
                <a:off x="4925160" y="17431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4924440" y="18280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2" name=""/>
          <p:cNvGrpSpPr/>
          <p:nvPr/>
        </p:nvGrpSpPr>
        <p:grpSpPr>
          <a:xfrm>
            <a:off x="4003560" y="2523960"/>
            <a:ext cx="257040" cy="542880"/>
            <a:chOff x="4003560" y="2523960"/>
            <a:chExt cx="257040" cy="542880"/>
          </a:xfrm>
        </p:grpSpPr>
        <p:sp>
          <p:nvSpPr>
            <p:cNvPr id="2143" name=""/>
            <p:cNvSpPr/>
            <p:nvPr/>
          </p:nvSpPr>
          <p:spPr>
            <a:xfrm>
              <a:off x="4100400" y="284004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4" name=""/>
            <p:cNvGrpSpPr/>
            <p:nvPr/>
          </p:nvGrpSpPr>
          <p:grpSpPr>
            <a:xfrm>
              <a:off x="4003560" y="2523960"/>
              <a:ext cx="257040" cy="542880"/>
              <a:chOff x="4003560" y="2523960"/>
              <a:chExt cx="257040" cy="542880"/>
            </a:xfrm>
          </p:grpSpPr>
          <p:grpSp>
            <p:nvGrpSpPr>
              <p:cNvPr id="2145" name=""/>
              <p:cNvGrpSpPr/>
              <p:nvPr/>
            </p:nvGrpSpPr>
            <p:grpSpPr>
              <a:xfrm>
                <a:off x="4003560" y="2671200"/>
                <a:ext cx="257040" cy="395640"/>
                <a:chOff x="4003560" y="2671200"/>
                <a:chExt cx="257040" cy="395640"/>
              </a:xfrm>
            </p:grpSpPr>
            <p:sp>
              <p:nvSpPr>
                <p:cNvPr id="2146" name=""/>
                <p:cNvSpPr/>
                <p:nvPr/>
              </p:nvSpPr>
              <p:spPr>
                <a:xfrm flipH="1">
                  <a:off x="4003560" y="267120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4138920" y="26791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H="1">
                  <a:off x="4104720" y="267120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9" name=""/>
              <p:cNvSpPr/>
              <p:nvPr/>
            </p:nvSpPr>
            <p:spPr>
              <a:xfrm>
                <a:off x="4052160" y="25239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051080" y="260928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1" name=""/>
          <p:cNvGrpSpPr/>
          <p:nvPr/>
        </p:nvGrpSpPr>
        <p:grpSpPr>
          <a:xfrm>
            <a:off x="6235560" y="4622760"/>
            <a:ext cx="257040" cy="542520"/>
            <a:chOff x="6235560" y="4622760"/>
            <a:chExt cx="257040" cy="542520"/>
          </a:xfrm>
        </p:grpSpPr>
        <p:sp>
          <p:nvSpPr>
            <p:cNvPr id="2152" name=""/>
            <p:cNvSpPr/>
            <p:nvPr/>
          </p:nvSpPr>
          <p:spPr>
            <a:xfrm>
              <a:off x="6316560" y="4960800"/>
              <a:ext cx="7488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3" name=""/>
            <p:cNvGrpSpPr/>
            <p:nvPr/>
          </p:nvGrpSpPr>
          <p:grpSpPr>
            <a:xfrm>
              <a:off x="6235560" y="4622760"/>
              <a:ext cx="257040" cy="542520"/>
              <a:chOff x="6235560" y="4622760"/>
              <a:chExt cx="257040" cy="542520"/>
            </a:xfrm>
          </p:grpSpPr>
          <p:grpSp>
            <p:nvGrpSpPr>
              <p:cNvPr id="2154" name=""/>
              <p:cNvGrpSpPr/>
              <p:nvPr/>
            </p:nvGrpSpPr>
            <p:grpSpPr>
              <a:xfrm>
                <a:off x="6235560" y="4770000"/>
                <a:ext cx="257040" cy="395280"/>
                <a:chOff x="6235560" y="4770000"/>
                <a:chExt cx="257040" cy="395280"/>
              </a:xfrm>
            </p:grpSpPr>
            <p:sp>
              <p:nvSpPr>
                <p:cNvPr id="2155" name=""/>
                <p:cNvSpPr/>
                <p:nvPr/>
              </p:nvSpPr>
              <p:spPr>
                <a:xfrm flipH="1">
                  <a:off x="6235560" y="47700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6370920" y="47779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6336720" y="47700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8" name=""/>
              <p:cNvSpPr/>
              <p:nvPr/>
            </p:nvSpPr>
            <p:spPr>
              <a:xfrm>
                <a:off x="6284160" y="46227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6283080" y="47077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0" name=""/>
          <p:cNvGrpSpPr/>
          <p:nvPr/>
        </p:nvGrpSpPr>
        <p:grpSpPr>
          <a:xfrm>
            <a:off x="3168720" y="5472000"/>
            <a:ext cx="134640" cy="307800"/>
            <a:chOff x="3168720" y="5472000"/>
            <a:chExt cx="134640" cy="307800"/>
          </a:xfrm>
        </p:grpSpPr>
        <p:grpSp>
          <p:nvGrpSpPr>
            <p:cNvPr id="2161" name=""/>
            <p:cNvGrpSpPr/>
            <p:nvPr/>
          </p:nvGrpSpPr>
          <p:grpSpPr>
            <a:xfrm>
              <a:off x="3168720" y="5472000"/>
              <a:ext cx="134640" cy="215280"/>
              <a:chOff x="3168720" y="5472000"/>
              <a:chExt cx="134640" cy="215280"/>
            </a:xfrm>
          </p:grpSpPr>
          <p:sp>
            <p:nvSpPr>
              <p:cNvPr id="2162" name=""/>
              <p:cNvSpPr/>
              <p:nvPr/>
            </p:nvSpPr>
            <p:spPr>
              <a:xfrm>
                <a:off x="3235320" y="557964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3" name=""/>
              <p:cNvGrpSpPr/>
              <p:nvPr/>
            </p:nvGrpSpPr>
            <p:grpSpPr>
              <a:xfrm>
                <a:off x="3168720" y="5472000"/>
                <a:ext cx="134640" cy="153720"/>
                <a:chOff x="3168720" y="5472000"/>
                <a:chExt cx="134640" cy="15372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3170160" y="547200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168720" y="555768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6" name=""/>
            <p:cNvSpPr/>
            <p:nvPr/>
          </p:nvSpPr>
          <p:spPr>
            <a:xfrm>
              <a:off x="3238560" y="565920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7" name=""/>
          <p:cNvGrpSpPr/>
          <p:nvPr/>
        </p:nvGrpSpPr>
        <p:grpSpPr>
          <a:xfrm>
            <a:off x="3571920" y="1943280"/>
            <a:ext cx="134640" cy="215280"/>
            <a:chOff x="3571920" y="1943280"/>
            <a:chExt cx="134640" cy="215280"/>
          </a:xfrm>
        </p:grpSpPr>
        <p:sp>
          <p:nvSpPr>
            <p:cNvPr id="2168" name=""/>
            <p:cNvSpPr/>
            <p:nvPr/>
          </p:nvSpPr>
          <p:spPr>
            <a:xfrm>
              <a:off x="3638520" y="2050920"/>
              <a:ext cx="0" cy="10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9" name=""/>
            <p:cNvGrpSpPr/>
            <p:nvPr/>
          </p:nvGrpSpPr>
          <p:grpSpPr>
            <a:xfrm>
              <a:off x="3571920" y="1943280"/>
              <a:ext cx="134640" cy="153720"/>
              <a:chOff x="3571920" y="1943280"/>
              <a:chExt cx="134640" cy="153720"/>
            </a:xfrm>
          </p:grpSpPr>
          <p:sp>
            <p:nvSpPr>
              <p:cNvPr id="2170" name=""/>
              <p:cNvSpPr/>
              <p:nvPr/>
            </p:nvSpPr>
            <p:spPr>
              <a:xfrm>
                <a:off x="3573360" y="1943280"/>
                <a:ext cx="133200" cy="1015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571920" y="2028960"/>
                <a:ext cx="134640" cy="68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2" name=""/>
          <p:cNvSpPr/>
          <p:nvPr/>
        </p:nvSpPr>
        <p:spPr>
          <a:xfrm>
            <a:off x="3641760" y="2120760"/>
            <a:ext cx="6480" cy="1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3" name=""/>
          <p:cNvGrpSpPr/>
          <p:nvPr/>
        </p:nvGrpSpPr>
        <p:grpSpPr>
          <a:xfrm>
            <a:off x="1757520" y="3016080"/>
            <a:ext cx="256680" cy="542880"/>
            <a:chOff x="1757520" y="3016080"/>
            <a:chExt cx="256680" cy="542880"/>
          </a:xfrm>
        </p:grpSpPr>
        <p:sp>
          <p:nvSpPr>
            <p:cNvPr id="2174" name=""/>
            <p:cNvSpPr/>
            <p:nvPr/>
          </p:nvSpPr>
          <p:spPr>
            <a:xfrm>
              <a:off x="1828800" y="3352680"/>
              <a:ext cx="74520" cy="74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5" name=""/>
            <p:cNvGrpSpPr/>
            <p:nvPr/>
          </p:nvGrpSpPr>
          <p:grpSpPr>
            <a:xfrm>
              <a:off x="1757520" y="3016080"/>
              <a:ext cx="256680" cy="542880"/>
              <a:chOff x="1757520" y="3016080"/>
              <a:chExt cx="256680" cy="542880"/>
            </a:xfrm>
          </p:grpSpPr>
          <p:grpSp>
            <p:nvGrpSpPr>
              <p:cNvPr id="2176" name=""/>
              <p:cNvGrpSpPr/>
              <p:nvPr/>
            </p:nvGrpSpPr>
            <p:grpSpPr>
              <a:xfrm>
                <a:off x="1757520" y="3163320"/>
                <a:ext cx="256680" cy="395640"/>
                <a:chOff x="1757520" y="3163320"/>
                <a:chExt cx="256680" cy="395640"/>
              </a:xfrm>
            </p:grpSpPr>
            <p:sp>
              <p:nvSpPr>
                <p:cNvPr id="2177" name=""/>
                <p:cNvSpPr/>
                <p:nvPr/>
              </p:nvSpPr>
              <p:spPr>
                <a:xfrm flipH="1">
                  <a:off x="1757520" y="3163320"/>
                  <a:ext cx="121680" cy="2984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1892520" y="317124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flipH="1">
                  <a:off x="1858680" y="3163320"/>
                  <a:ext cx="20160" cy="39564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0" name=""/>
              <p:cNvSpPr/>
              <p:nvPr/>
            </p:nvSpPr>
            <p:spPr>
              <a:xfrm>
                <a:off x="1805760" y="301608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1805040" y="310140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2" name=""/>
          <p:cNvGrpSpPr/>
          <p:nvPr/>
        </p:nvGrpSpPr>
        <p:grpSpPr>
          <a:xfrm>
            <a:off x="5261040" y="971640"/>
            <a:ext cx="134640" cy="285840"/>
            <a:chOff x="5261040" y="971640"/>
            <a:chExt cx="134640" cy="285840"/>
          </a:xfrm>
        </p:grpSpPr>
        <p:grpSp>
          <p:nvGrpSpPr>
            <p:cNvPr id="2183" name=""/>
            <p:cNvGrpSpPr/>
            <p:nvPr/>
          </p:nvGrpSpPr>
          <p:grpSpPr>
            <a:xfrm>
              <a:off x="5261040" y="971640"/>
              <a:ext cx="134640" cy="215280"/>
              <a:chOff x="5261040" y="971640"/>
              <a:chExt cx="134640" cy="215280"/>
            </a:xfrm>
          </p:grpSpPr>
          <p:sp>
            <p:nvSpPr>
              <p:cNvPr id="2184" name=""/>
              <p:cNvSpPr/>
              <p:nvPr/>
            </p:nvSpPr>
            <p:spPr>
              <a:xfrm>
                <a:off x="5327640" y="107928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5" name=""/>
              <p:cNvGrpSpPr/>
              <p:nvPr/>
            </p:nvGrpSpPr>
            <p:grpSpPr>
              <a:xfrm>
                <a:off x="5261040" y="971640"/>
                <a:ext cx="134640" cy="153720"/>
                <a:chOff x="5261040" y="971640"/>
                <a:chExt cx="134640" cy="153720"/>
              </a:xfrm>
            </p:grpSpPr>
            <p:sp>
              <p:nvSpPr>
                <p:cNvPr id="2186" name=""/>
                <p:cNvSpPr/>
                <p:nvPr/>
              </p:nvSpPr>
              <p:spPr>
                <a:xfrm>
                  <a:off x="5262480" y="97164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5261040" y="105732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88" name=""/>
            <p:cNvSpPr/>
            <p:nvPr/>
          </p:nvSpPr>
          <p:spPr>
            <a:xfrm>
              <a:off x="5334120" y="1143000"/>
              <a:ext cx="0" cy="1144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9" name=""/>
          <p:cNvGrpSpPr/>
          <p:nvPr/>
        </p:nvGrpSpPr>
        <p:grpSpPr>
          <a:xfrm>
            <a:off x="3065400" y="3976560"/>
            <a:ext cx="257040" cy="542520"/>
            <a:chOff x="3065400" y="3976560"/>
            <a:chExt cx="257040" cy="542520"/>
          </a:xfrm>
        </p:grpSpPr>
        <p:sp>
          <p:nvSpPr>
            <p:cNvPr id="2190" name=""/>
            <p:cNvSpPr/>
            <p:nvPr/>
          </p:nvSpPr>
          <p:spPr>
            <a:xfrm>
              <a:off x="3135240" y="4299120"/>
              <a:ext cx="7452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1" name=""/>
            <p:cNvGrpSpPr/>
            <p:nvPr/>
          </p:nvGrpSpPr>
          <p:grpSpPr>
            <a:xfrm>
              <a:off x="3065400" y="3976560"/>
              <a:ext cx="257040" cy="542520"/>
              <a:chOff x="3065400" y="3976560"/>
              <a:chExt cx="257040" cy="542520"/>
            </a:xfrm>
          </p:grpSpPr>
          <p:grpSp>
            <p:nvGrpSpPr>
              <p:cNvPr id="2192" name=""/>
              <p:cNvGrpSpPr/>
              <p:nvPr/>
            </p:nvGrpSpPr>
            <p:grpSpPr>
              <a:xfrm>
                <a:off x="3065400" y="4123800"/>
                <a:ext cx="257040" cy="395280"/>
                <a:chOff x="3065400" y="4123800"/>
                <a:chExt cx="257040" cy="395280"/>
              </a:xfrm>
            </p:grpSpPr>
            <p:sp>
              <p:nvSpPr>
                <p:cNvPr id="2193" name=""/>
                <p:cNvSpPr/>
                <p:nvPr/>
              </p:nvSpPr>
              <p:spPr>
                <a:xfrm flipH="1">
                  <a:off x="3065400" y="412380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3200760" y="413172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>
                  <a:off x="3166560" y="412380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6" name=""/>
              <p:cNvSpPr/>
              <p:nvPr/>
            </p:nvSpPr>
            <p:spPr>
              <a:xfrm>
                <a:off x="3114000" y="3976560"/>
                <a:ext cx="13428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112920" y="4061520"/>
                <a:ext cx="13536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8" name=""/>
          <p:cNvSpPr/>
          <p:nvPr/>
        </p:nvSpPr>
        <p:spPr>
          <a:xfrm>
            <a:off x="1457280" y="2570040"/>
            <a:ext cx="1774800" cy="2965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 flipH="1">
            <a:off x="3240000" y="2530440"/>
            <a:ext cx="881280" cy="29894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5195880" y="3193920"/>
            <a:ext cx="256680" cy="542520"/>
            <a:chOff x="5195880" y="3193920"/>
            <a:chExt cx="256680" cy="542520"/>
          </a:xfrm>
        </p:grpSpPr>
        <p:sp>
          <p:nvSpPr>
            <p:cNvPr id="2201" name=""/>
            <p:cNvSpPr/>
            <p:nvPr/>
          </p:nvSpPr>
          <p:spPr>
            <a:xfrm>
              <a:off x="5286240" y="353376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2" name=""/>
            <p:cNvGrpSpPr/>
            <p:nvPr/>
          </p:nvGrpSpPr>
          <p:grpSpPr>
            <a:xfrm>
              <a:off x="5195880" y="3193920"/>
              <a:ext cx="256680" cy="542520"/>
              <a:chOff x="5195880" y="3193920"/>
              <a:chExt cx="256680" cy="542520"/>
            </a:xfrm>
          </p:grpSpPr>
          <p:grpSp>
            <p:nvGrpSpPr>
              <p:cNvPr id="2203" name=""/>
              <p:cNvGrpSpPr/>
              <p:nvPr/>
            </p:nvGrpSpPr>
            <p:grpSpPr>
              <a:xfrm>
                <a:off x="5195880" y="3341160"/>
                <a:ext cx="256680" cy="395280"/>
                <a:chOff x="5195880" y="3341160"/>
                <a:chExt cx="256680" cy="395280"/>
              </a:xfrm>
            </p:grpSpPr>
            <p:sp>
              <p:nvSpPr>
                <p:cNvPr id="2204" name=""/>
                <p:cNvSpPr/>
                <p:nvPr/>
              </p:nvSpPr>
              <p:spPr>
                <a:xfrm flipH="1">
                  <a:off x="5195880" y="334116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330880" y="334908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flipH="1">
                  <a:off x="5297040" y="334116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7" name=""/>
              <p:cNvSpPr/>
              <p:nvPr/>
            </p:nvSpPr>
            <p:spPr>
              <a:xfrm>
                <a:off x="5244120" y="319392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243400" y="327888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9" name=""/>
          <p:cNvSpPr/>
          <p:nvPr/>
        </p:nvSpPr>
        <p:spPr>
          <a:xfrm flipH="1">
            <a:off x="3233880" y="4646520"/>
            <a:ext cx="3101760" cy="8812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326200" y="976320"/>
            <a:ext cx="1017360" cy="36496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1" name=""/>
          <p:cNvGrpSpPr/>
          <p:nvPr/>
        </p:nvGrpSpPr>
        <p:grpSpPr>
          <a:xfrm>
            <a:off x="4433760" y="3933720"/>
            <a:ext cx="134640" cy="307800"/>
            <a:chOff x="4433760" y="3933720"/>
            <a:chExt cx="134640" cy="307800"/>
          </a:xfrm>
        </p:grpSpPr>
        <p:grpSp>
          <p:nvGrpSpPr>
            <p:cNvPr id="2212" name=""/>
            <p:cNvGrpSpPr/>
            <p:nvPr/>
          </p:nvGrpSpPr>
          <p:grpSpPr>
            <a:xfrm>
              <a:off x="4433760" y="3933720"/>
              <a:ext cx="134640" cy="215280"/>
              <a:chOff x="4433760" y="3933720"/>
              <a:chExt cx="134640" cy="215280"/>
            </a:xfrm>
          </p:grpSpPr>
          <p:sp>
            <p:nvSpPr>
              <p:cNvPr id="2213" name=""/>
              <p:cNvSpPr/>
              <p:nvPr/>
            </p:nvSpPr>
            <p:spPr>
              <a:xfrm>
                <a:off x="4500360" y="4041360"/>
                <a:ext cx="0" cy="10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4" name=""/>
              <p:cNvGrpSpPr/>
              <p:nvPr/>
            </p:nvGrpSpPr>
            <p:grpSpPr>
              <a:xfrm>
                <a:off x="4433760" y="3933720"/>
                <a:ext cx="134640" cy="153720"/>
                <a:chOff x="4433760" y="3933720"/>
                <a:chExt cx="134640" cy="15372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4435200" y="3933720"/>
                  <a:ext cx="133200" cy="101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4433760" y="4019400"/>
                  <a:ext cx="134640" cy="680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7" name=""/>
            <p:cNvSpPr/>
            <p:nvPr/>
          </p:nvSpPr>
          <p:spPr>
            <a:xfrm>
              <a:off x="4503600" y="4120920"/>
              <a:ext cx="6120" cy="1206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8" name=""/>
          <p:cNvSpPr/>
          <p:nvPr/>
        </p:nvSpPr>
        <p:spPr>
          <a:xfrm flipV="1">
            <a:off x="4105440" y="996480"/>
            <a:ext cx="1225440" cy="1551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114800" y="2538360"/>
            <a:ext cx="2235240" cy="2116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2666880" y="3111480"/>
            <a:ext cx="228600" cy="542520"/>
            <a:chOff x="2666880" y="3111480"/>
            <a:chExt cx="228600" cy="542520"/>
          </a:xfrm>
        </p:grpSpPr>
        <p:sp>
          <p:nvSpPr>
            <p:cNvPr id="2221" name=""/>
            <p:cNvSpPr/>
            <p:nvPr/>
          </p:nvSpPr>
          <p:spPr>
            <a:xfrm>
              <a:off x="2796480" y="3483000"/>
              <a:ext cx="0" cy="1710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666880" y="3111480"/>
              <a:ext cx="228600" cy="37152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 flipV="1">
              <a:off x="2750760" y="3210840"/>
              <a:ext cx="53280" cy="2430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2773440" y="3268440"/>
              <a:ext cx="83880" cy="7128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 flipV="1">
              <a:off x="2711880" y="3354480"/>
              <a:ext cx="83880" cy="424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2970360" y="2779560"/>
            <a:ext cx="285480" cy="533160"/>
            <a:chOff x="2970360" y="2779560"/>
            <a:chExt cx="285480" cy="533160"/>
          </a:xfrm>
        </p:grpSpPr>
        <p:sp>
          <p:nvSpPr>
            <p:cNvPr id="2227" name=""/>
            <p:cNvSpPr/>
            <p:nvPr/>
          </p:nvSpPr>
          <p:spPr>
            <a:xfrm>
              <a:off x="3132360" y="314460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970360" y="277956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 flipV="1">
              <a:off x="3074760" y="287712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3103560" y="293364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 flipV="1">
              <a:off x="3027240" y="301824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2" name=""/>
          <p:cNvGrpSpPr/>
          <p:nvPr/>
        </p:nvGrpSpPr>
        <p:grpSpPr>
          <a:xfrm>
            <a:off x="2811600" y="2938320"/>
            <a:ext cx="285480" cy="533160"/>
            <a:chOff x="2811600" y="2938320"/>
            <a:chExt cx="285480" cy="533160"/>
          </a:xfrm>
        </p:grpSpPr>
        <p:sp>
          <p:nvSpPr>
            <p:cNvPr id="2233" name=""/>
            <p:cNvSpPr/>
            <p:nvPr/>
          </p:nvSpPr>
          <p:spPr>
            <a:xfrm>
              <a:off x="2973600" y="3303360"/>
              <a:ext cx="0" cy="1681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811600" y="2938320"/>
              <a:ext cx="285480" cy="36504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2916000" y="3035880"/>
              <a:ext cx="66600" cy="2386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2944800" y="3092400"/>
              <a:ext cx="104760" cy="6984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 flipV="1">
              <a:off x="2868480" y="3177000"/>
              <a:ext cx="105120" cy="417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8" name=""/>
          <p:cNvGrpSpPr/>
          <p:nvPr/>
        </p:nvGrpSpPr>
        <p:grpSpPr>
          <a:xfrm>
            <a:off x="2933640" y="3127320"/>
            <a:ext cx="181080" cy="510480"/>
            <a:chOff x="2933640" y="3127320"/>
            <a:chExt cx="181080" cy="510480"/>
          </a:xfrm>
        </p:grpSpPr>
        <p:sp>
          <p:nvSpPr>
            <p:cNvPr id="2239" name=""/>
            <p:cNvSpPr/>
            <p:nvPr/>
          </p:nvSpPr>
          <p:spPr>
            <a:xfrm>
              <a:off x="3036240" y="3476880"/>
              <a:ext cx="0" cy="160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33640" y="3127320"/>
              <a:ext cx="181080" cy="349560"/>
            </a:xfrm>
            <a:custGeom>
              <a:avLst/>
              <a:gdLst/>
              <a:ahLst/>
              <a:rect l="l" t="t" r="r" b="b"/>
              <a:pathLst>
                <a:path w="180" h="156">
                  <a:moveTo>
                    <a:pt x="96" y="156"/>
                  </a:moveTo>
                  <a:lnTo>
                    <a:pt x="36" y="156"/>
                  </a:lnTo>
                  <a:lnTo>
                    <a:pt x="0" y="108"/>
                  </a:lnTo>
                  <a:lnTo>
                    <a:pt x="30" y="72"/>
                  </a:lnTo>
                  <a:lnTo>
                    <a:pt x="24" y="0"/>
                  </a:lnTo>
                  <a:lnTo>
                    <a:pt x="72" y="12"/>
                  </a:lnTo>
                  <a:lnTo>
                    <a:pt x="150" y="12"/>
                  </a:lnTo>
                  <a:lnTo>
                    <a:pt x="180" y="84"/>
                  </a:lnTo>
                  <a:lnTo>
                    <a:pt x="180" y="144"/>
                  </a:lnTo>
                  <a:lnTo>
                    <a:pt x="96" y="1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 flipV="1">
              <a:off x="2999520" y="3220920"/>
              <a:ext cx="4212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3017880" y="3275280"/>
              <a:ext cx="66240" cy="66960"/>
            </a:xfrm>
            <a:prstGeom prst="line">
              <a:avLst/>
            </a:prstGeom>
            <a:ln w="190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H="1" flipV="1">
              <a:off x="2969280" y="3355560"/>
              <a:ext cx="66600" cy="399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4" name=""/>
          <p:cNvGrpSpPr/>
          <p:nvPr/>
        </p:nvGrpSpPr>
        <p:grpSpPr>
          <a:xfrm>
            <a:off x="3232080" y="3936960"/>
            <a:ext cx="3124440" cy="1568160"/>
            <a:chOff x="3232080" y="3936960"/>
            <a:chExt cx="3124440" cy="1568160"/>
          </a:xfrm>
        </p:grpSpPr>
        <p:sp>
          <p:nvSpPr>
            <p:cNvPr id="2245" name=""/>
            <p:cNvSpPr/>
            <p:nvPr/>
          </p:nvSpPr>
          <p:spPr>
            <a:xfrm flipV="1">
              <a:off x="3232080" y="3943080"/>
              <a:ext cx="1270080" cy="1562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495680" y="3936960"/>
              <a:ext cx="1860840" cy="704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7" name=""/>
          <p:cNvGrpSpPr/>
          <p:nvPr/>
        </p:nvGrpSpPr>
        <p:grpSpPr>
          <a:xfrm>
            <a:off x="3232080" y="4635360"/>
            <a:ext cx="3117960" cy="876600"/>
            <a:chOff x="3232080" y="4635360"/>
            <a:chExt cx="3117960" cy="876600"/>
          </a:xfrm>
        </p:grpSpPr>
        <p:sp>
          <p:nvSpPr>
            <p:cNvPr id="2248" name=""/>
            <p:cNvSpPr/>
            <p:nvPr/>
          </p:nvSpPr>
          <p:spPr>
            <a:xfrm flipV="1">
              <a:off x="3232080" y="4724280"/>
              <a:ext cx="1117800" cy="787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4356000" y="4635360"/>
              <a:ext cx="1994040" cy="82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1473120" y="2552760"/>
            <a:ext cx="2622600" cy="482400"/>
            <a:chOff x="1473120" y="2552760"/>
            <a:chExt cx="2622600" cy="482400"/>
          </a:xfrm>
        </p:grpSpPr>
        <p:sp>
          <p:nvSpPr>
            <p:cNvPr id="2251" name=""/>
            <p:cNvSpPr/>
            <p:nvPr/>
          </p:nvSpPr>
          <p:spPr>
            <a:xfrm>
              <a:off x="1473120" y="2584440"/>
              <a:ext cx="393840" cy="43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1866960" y="2552760"/>
              <a:ext cx="2228760" cy="48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1492200" y="1936800"/>
            <a:ext cx="2616120" cy="647280"/>
            <a:chOff x="1492200" y="1936800"/>
            <a:chExt cx="2616120" cy="647280"/>
          </a:xfrm>
        </p:grpSpPr>
        <p:sp>
          <p:nvSpPr>
            <p:cNvPr id="2254" name=""/>
            <p:cNvSpPr/>
            <p:nvPr/>
          </p:nvSpPr>
          <p:spPr>
            <a:xfrm flipV="1">
              <a:off x="1492200" y="1942920"/>
              <a:ext cx="2133720" cy="641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625920" y="1936800"/>
              <a:ext cx="482400" cy="622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1486080" y="2546280"/>
            <a:ext cx="2621880" cy="1428840"/>
            <a:chOff x="1486080" y="2546280"/>
            <a:chExt cx="2621880" cy="1428840"/>
          </a:xfrm>
        </p:grpSpPr>
        <p:sp>
          <p:nvSpPr>
            <p:cNvPr id="2257" name=""/>
            <p:cNvSpPr/>
            <p:nvPr/>
          </p:nvSpPr>
          <p:spPr>
            <a:xfrm>
              <a:off x="1486080" y="2584440"/>
              <a:ext cx="1688760" cy="1390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3187440" y="2546280"/>
              <a:ext cx="920520" cy="1428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4133880" y="977400"/>
            <a:ext cx="1193400" cy="2235240"/>
            <a:chOff x="4133880" y="977400"/>
            <a:chExt cx="1193400" cy="2235240"/>
          </a:xfrm>
        </p:grpSpPr>
        <p:sp>
          <p:nvSpPr>
            <p:cNvPr id="2260" name=""/>
            <p:cNvSpPr/>
            <p:nvPr/>
          </p:nvSpPr>
          <p:spPr>
            <a:xfrm>
              <a:off x="4133880" y="2546280"/>
              <a:ext cx="1168200" cy="65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H="1" flipV="1">
              <a:off x="5314680" y="977400"/>
              <a:ext cx="12600" cy="2235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4127400" y="984240"/>
            <a:ext cx="1187640" cy="1561680"/>
            <a:chOff x="4127400" y="984240"/>
            <a:chExt cx="1187640" cy="1561680"/>
          </a:xfrm>
        </p:grpSpPr>
        <p:sp>
          <p:nvSpPr>
            <p:cNvPr id="2263" name=""/>
            <p:cNvSpPr/>
            <p:nvPr/>
          </p:nvSpPr>
          <p:spPr>
            <a:xfrm flipV="1">
              <a:off x="4984920" y="984240"/>
              <a:ext cx="330120" cy="76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4127400" y="1752120"/>
              <a:ext cx="870120" cy="793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5" name=""/>
          <p:cNvGrpSpPr/>
          <p:nvPr/>
        </p:nvGrpSpPr>
        <p:grpSpPr>
          <a:xfrm>
            <a:off x="4238640" y="4721400"/>
            <a:ext cx="256680" cy="542520"/>
            <a:chOff x="4238640" y="4721400"/>
            <a:chExt cx="256680" cy="542520"/>
          </a:xfrm>
        </p:grpSpPr>
        <p:sp>
          <p:nvSpPr>
            <p:cNvPr id="2266" name=""/>
            <p:cNvSpPr/>
            <p:nvPr/>
          </p:nvSpPr>
          <p:spPr>
            <a:xfrm>
              <a:off x="4325760" y="5070600"/>
              <a:ext cx="74880" cy="745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7" name=""/>
            <p:cNvGrpSpPr/>
            <p:nvPr/>
          </p:nvGrpSpPr>
          <p:grpSpPr>
            <a:xfrm>
              <a:off x="4238640" y="4721400"/>
              <a:ext cx="256680" cy="542520"/>
              <a:chOff x="4238640" y="4721400"/>
              <a:chExt cx="256680" cy="542520"/>
            </a:xfrm>
          </p:grpSpPr>
          <p:grpSp>
            <p:nvGrpSpPr>
              <p:cNvPr id="2268" name=""/>
              <p:cNvGrpSpPr/>
              <p:nvPr/>
            </p:nvGrpSpPr>
            <p:grpSpPr>
              <a:xfrm>
                <a:off x="4238640" y="4868640"/>
                <a:ext cx="256680" cy="395280"/>
                <a:chOff x="4238640" y="4868640"/>
                <a:chExt cx="256680" cy="395280"/>
              </a:xfrm>
            </p:grpSpPr>
            <p:sp>
              <p:nvSpPr>
                <p:cNvPr id="2269" name=""/>
                <p:cNvSpPr/>
                <p:nvPr/>
              </p:nvSpPr>
              <p:spPr>
                <a:xfrm flipH="1">
                  <a:off x="4238640" y="4868640"/>
                  <a:ext cx="121680" cy="298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4373640" y="4876560"/>
                  <a:ext cx="121680" cy="2581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H="1">
                  <a:off x="4339800" y="4868640"/>
                  <a:ext cx="20160" cy="3952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2" name=""/>
              <p:cNvSpPr/>
              <p:nvPr/>
            </p:nvSpPr>
            <p:spPr>
              <a:xfrm>
                <a:off x="4286880" y="4721400"/>
                <a:ext cx="133920" cy="1008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4286160" y="4806360"/>
                <a:ext cx="135000" cy="68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4" name=""/>
          <p:cNvSpPr/>
          <p:nvPr/>
        </p:nvSpPr>
        <p:spPr>
          <a:xfrm>
            <a:off x="5753160" y="0"/>
            <a:ext cx="339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ssions from I to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ample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İstanbul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İzmir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515520" y="4979520"/>
            <a:ext cx="8628120" cy="13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at’s all.  No more than this.  Therefor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hare in peace</a:t>
            </a:r>
            <a:r>
              <a:rPr b="0" lang="tr-TR" sz="2400" spc="-1" strike="noStrike">
                <a:solidFill>
                  <a:srgbClr val="ffffff"/>
                </a:solidFill>
                <a:latin typeface="Tahoma"/>
              </a:rPr>
              <a:t>..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ve a nice week to you al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9" name="" descr=""/>
          <p:cNvPicPr/>
          <p:nvPr/>
        </p:nvPicPr>
        <p:blipFill>
          <a:blip r:embed="rId1"/>
          <a:stretch/>
        </p:blipFill>
        <p:spPr>
          <a:xfrm>
            <a:off x="2978280" y="184140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825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ace Based Geodetic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urkish National Fundamental GPS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PS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PS Receivers for Geodetic Networ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PS Network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ample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489720" y="2603520"/>
            <a:ext cx="1643040" cy="3538440"/>
            <a:chOff x="6489720" y="2603520"/>
            <a:chExt cx="1643040" cy="3538440"/>
          </a:xfrm>
        </p:grpSpPr>
        <p:graphicFrame>
          <p:nvGraphicFramePr>
            <p:cNvPr id="60" name=""/>
            <p:cNvGraphicFramePr/>
            <p:nvPr/>
          </p:nvGraphicFramePr>
          <p:xfrm>
            <a:off x="6489720" y="2603520"/>
            <a:ext cx="1643040" cy="35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89720" y="2603520"/>
                      <a:ext cx="1643040" cy="35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7062840" y="2728440"/>
            <a:ext cx="60048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62840" y="2728440"/>
                      <a:ext cx="60048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49160" y="59688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odetic Network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PS Techn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8880" y="7858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P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487520" y="1907640"/>
            <a:ext cx="64008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pid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e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Kinem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ematic On The F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0080" y="555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PS Receivers for Geodetic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53720" y="1704960"/>
            <a:ext cx="728028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al Frequency Geodetic Rece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/A &amp; P 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ier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1 &amp; L2 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enna H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7400" y="2133720"/>
            <a:ext cx="3085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81560" y="5810400"/>
            <a:ext cx="514440" cy="190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307320" y="2151000"/>
            <a:ext cx="2443680" cy="4310640"/>
            <a:chOff x="3307320" y="2151000"/>
            <a:chExt cx="2443680" cy="4310640"/>
          </a:xfrm>
        </p:grpSpPr>
        <p:sp>
          <p:nvSpPr>
            <p:cNvPr id="77" name=""/>
            <p:cNvSpPr/>
            <p:nvPr/>
          </p:nvSpPr>
          <p:spPr>
            <a:xfrm>
              <a:off x="4222800" y="2598840"/>
              <a:ext cx="938160" cy="36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95880" y="2151000"/>
              <a:ext cx="793440" cy="4334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13400" y="2959200"/>
              <a:ext cx="144360" cy="158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81640" y="3117960"/>
              <a:ext cx="404640" cy="172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307320" y="3304080"/>
              <a:ext cx="1084680" cy="2823480"/>
              <a:chOff x="3307320" y="3304080"/>
              <a:chExt cx="1084680" cy="2823480"/>
            </a:xfrm>
          </p:grpSpPr>
          <p:sp>
            <p:nvSpPr>
              <p:cNvPr id="82" name=""/>
              <p:cNvSpPr/>
              <p:nvPr/>
            </p:nvSpPr>
            <p:spPr>
              <a:xfrm rot="1078800">
                <a:off x="3903480" y="3259080"/>
                <a:ext cx="104760" cy="2502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2112200">
                <a:off x="3393720" y="5614200"/>
                <a:ext cx="174600" cy="49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919040" y="3300840"/>
              <a:ext cx="831960" cy="2880360"/>
              <a:chOff x="4919040" y="3300840"/>
              <a:chExt cx="831960" cy="2880360"/>
            </a:xfrm>
          </p:grpSpPr>
          <p:sp>
            <p:nvSpPr>
              <p:cNvPr id="85" name=""/>
              <p:cNvSpPr/>
              <p:nvPr/>
            </p:nvSpPr>
            <p:spPr>
              <a:xfrm rot="20718600">
                <a:off x="5234760" y="3273120"/>
                <a:ext cx="104760" cy="25020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0150800">
                <a:off x="5531040" y="5670360"/>
                <a:ext cx="174600" cy="49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 rot="557400">
              <a:off x="4387320" y="3296880"/>
              <a:ext cx="131760" cy="2787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1341200">
              <a:off x="4099680" y="5892120"/>
              <a:ext cx="219240" cy="5554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95880" y="3276720"/>
              <a:ext cx="749160" cy="8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533840" y="5829480"/>
            <a:ext cx="31813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34280" y="1943280"/>
            <a:ext cx="0" cy="4171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64320" y="37814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6480" y="3124080"/>
            <a:ext cx="3085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2000160"/>
            <a:ext cx="0" cy="1371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88160" y="2390760"/>
            <a:ext cx="10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29440" y="2952720"/>
            <a:ext cx="0" cy="33148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45360" y="4162320"/>
            <a:ext cx="698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3666960"/>
            <a:ext cx="298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 a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+ 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1T03:39:04Z</dcterms:created>
  <dc:creator>Mustafa Tanışık</dc:creator>
  <dc:description/>
  <dc:language>en-US</dc:language>
  <cp:lastModifiedBy>Rahmi Nurhan CELIK</cp:lastModifiedBy>
  <dcterms:modified xsi:type="dcterms:W3CDTF">2003-04-07T07:22:18Z</dcterms:modified>
  <cp:revision>16</cp:revision>
  <dc:subject/>
  <dc:title>Geodetic Network Design</dc:title>
</cp:coreProperties>
</file>