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.wmf" ContentType="image/x-wmf"/>
  <Override PartName="/ppt/media/image23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779-BA6B-4A84-85C7-2DEBE966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CCD-4CDB-4A02-BEA9-5181BC7F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A2B-B5D5-4B9B-AA35-044E050B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1D0-6BDE-4667-80C2-C6FC532C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313-29D8-4B0A-A8A8-D28ACF7F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249-1856-4A25-9783-B35F95B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128-AE4F-4EC8-9A14-D18E3B6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992-47B9-478A-A9FB-96CD8153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75E-9F79-466C-8FE3-9D8F6D6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8D3-95B8-4B3F-993C-88DA541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082-5DF5-497E-AD93-A6AF0C3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F06-A771-40D3-95D7-5953CBE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C2C-8E2E-4B48-B98E-D6DCE1C6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60" y="468360"/>
            <a:ext cx="89582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GEODETIC NETWORK</a:t>
            </a: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52400"/>
            <a:ext cx="91440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Rahmi Nurhan ÇELİ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-mail: celikn@itu.edu.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ins.itu.edu.tr/jeodezi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532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GS Station Distribution for TUTG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5440" y="1492200"/>
            <a:ext cx="81136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3680" y="1328760"/>
            <a:ext cx="8283600" cy="470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6360" y="1512720"/>
            <a:ext cx="8031240" cy="449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3720" y="465120"/>
            <a:ext cx="8321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rizontal Velocities in ITRF9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5960" y="1471680"/>
            <a:ext cx="83422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360" y="1617840"/>
            <a:ext cx="7858080" cy="4389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3720" y="465120"/>
            <a:ext cx="83217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tical Velocities in ITRF9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692280"/>
            <a:ext cx="9144000" cy="5646600"/>
            <a:chOff x="0" y="692280"/>
            <a:chExt cx="9144000" cy="56466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56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855880" y="197568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3200" y="4012200"/>
              <a:ext cx="17172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90920" y="260568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02560" y="368784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4560" y="261612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5960" y="1471680"/>
            <a:ext cx="83422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rizontal Velocities in ITRF9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3120" y="1592280"/>
            <a:ext cx="779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tical Velocities in ITRF9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960" y="1471680"/>
            <a:ext cx="834228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7680" y="1587600"/>
            <a:ext cx="79070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3040" y="5806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ctonic Structure of TURK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914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617840"/>
            <a:ext cx="9144000" cy="42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PS/Leveling Geoi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558800"/>
            <a:ext cx="9144000" cy="529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eoid for Turkey 1991 (TG-9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6204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58800"/>
            <a:ext cx="9144000" cy="529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46512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PS/Levelling Geoid for 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is the Mission of Geodes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tro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odetic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rizont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urkish Nationa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ification of Geodet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ional Geodeti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onnaissance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gress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umbering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Description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ffects on Geodetic Network Desig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6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58800"/>
            <a:ext cx="9144000" cy="529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eoid for Turkey 1999 (TG-9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54120"/>
            <a:ext cx="91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962000"/>
            <a:ext cx="914400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 Control Stations Between TUTGA99 &amp; ED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9144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74400"/>
            <a:ext cx="91440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Horizontal Residuals After Transformation from ED50 to TUTGA9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Vertical Residuals After Transformation fromD50 to TUTGA9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11280"/>
            <a:ext cx="91440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5520" y="4979520"/>
            <a:ext cx="8628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at’s all.  No more than this.  Therefor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hare in peac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..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 nice week to you al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8280" y="18414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irection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djustment of Observations At A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xi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rror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atur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erson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mmon Mist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ccentric Measurements for Direction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ductions for 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ositioning with Inter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ositioning with Re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ordinating Ground Station of High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ecise Trave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tical Control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pace Based </a:t>
            </a:r>
            <a:r>
              <a:rPr b="0" lang="tr-TR" sz="1600" spc="-1" strike="noStrike">
                <a:solidFill>
                  <a:srgbClr val="ffffff"/>
                </a:solidFill>
                <a:latin typeface="Comic Sans MS"/>
              </a:rPr>
              <a:t>Geodetic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urkish National Fundamental GP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3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152360"/>
            <a:ext cx="66672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4440" y="1252440"/>
            <a:ext cx="8210520" cy="560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ribution of SLR Stations in 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76240" y="1486080"/>
            <a:ext cx="77724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um of TUTGA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 ITRF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llipsoid of TUTGA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GRS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6 378 13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398 600.5x10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0.00108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7292115x10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rad s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     : semimajor axi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 : angular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M  : product of the gravitational constan G by ist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: dynamical form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298.257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reciprocal of flattenn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978.0327 gal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quatorial gravity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G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rkish National Fundametal GP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692280"/>
            <a:ext cx="9144000" cy="5646600"/>
            <a:chOff x="0" y="692280"/>
            <a:chExt cx="9144000" cy="56466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56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855880" y="197568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43200" y="4012200"/>
              <a:ext cx="17172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0920" y="260568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02560" y="368784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4560" y="2616120"/>
              <a:ext cx="171360" cy="13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73280"/>
            <a:ext cx="9144000" cy="455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of TUT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808280"/>
            <a:ext cx="91440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mbering System of TUT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:100 000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_ _ _- _  _ _ _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23-G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rst 3 digits; the name of 1:100 000 scal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n a dash ‘ -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pital ‘G’ leter that indicates GPS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ast 3 digits; numbers from 1 to 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3:34:06Z</dcterms:created>
  <dc:creator>Mustafa Tanışık</dc:creator>
  <dc:description/>
  <dc:language>en-US</dc:language>
  <cp:lastModifiedBy>Rahmi Nurhan CELIK</cp:lastModifiedBy>
  <dcterms:modified xsi:type="dcterms:W3CDTF">2003-03-24T08:07:54Z</dcterms:modified>
  <cp:revision>19</cp:revision>
  <dc:subject/>
  <dc:title>No Slide Title</dc:title>
</cp:coreProperties>
</file>