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B26-7E70-400B-8C88-11348D61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0C2-8396-404B-9EE6-522E02C0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785-F94D-4161-B496-90EA6EE3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8BB-D8EE-49FA-9875-360DCAC8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BB5-77ED-410B-B11F-BD0AF3C4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B71-B897-4C67-9B08-F7455856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B7C-49A9-4D27-B00D-3E8B6A60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AF2-6376-4AB2-9F55-E5B89E35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C64-7287-46FF-BB6B-81F99FEC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696-0259-4411-9796-2521BDE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4A1-AB4E-4115-9F23-F97E7863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BD8-D23A-4D7A-A04E-BB506C40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315F-7583-43BD-96D7-51C028B6F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760" y="468360"/>
            <a:ext cx="895824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omic Sans MS"/>
              </a:rPr>
              <a:t>GEODETIC NETWORK</a:t>
            </a:r>
            <a:br>
              <a:rPr sz="4400"/>
            </a:br>
            <a:r>
              <a:rPr b="1" lang="en-AU" sz="4400" spc="-1" strike="noStrike">
                <a:solidFill>
                  <a:srgbClr val="ffffff"/>
                </a:solidFill>
                <a:latin typeface="Comic Sans MS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552400"/>
            <a:ext cx="91440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ssoc. Prof. Dr.</a:t>
            </a:r>
            <a:r>
              <a:rPr b="1" lang="tr-T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ahmi Nurhan ÇELİ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TU Departm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Geodesy &amp; Photogra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ivision of Geod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el: 0212-28538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-mail: celikn@itu.edu.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http://www.celikrn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ttp://atlas.cc.itu.edu.tr/~celi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http://www.geoitu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28720" y="209700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±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; 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±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om station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n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;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os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A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om station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n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;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os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(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+ 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(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+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 baseline="-36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03360" y="909720"/>
                <a:ext cx="2276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305320" y="866880"/>
                <a:ext cx="19116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97320" y="2090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81360" y="546084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283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286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291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297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314960" y="942480"/>
            <a:ext cx="1009440" cy="11322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21280" y="647640"/>
            <a:ext cx="668160" cy="593640"/>
          </a:xfrm>
          <a:custGeom>
            <a:avLst/>
            <a:gdLst/>
            <a:ahLst/>
            <a:rect l="l" t="t" r="r" b="b"/>
            <a:pathLst>
              <a:path w="421" h="374">
                <a:moveTo>
                  <a:pt x="82" y="274"/>
                </a:moveTo>
                <a:cubicBezTo>
                  <a:pt x="70" y="260"/>
                  <a:pt x="18" y="225"/>
                  <a:pt x="9" y="192"/>
                </a:cubicBezTo>
                <a:cubicBezTo>
                  <a:pt x="0" y="159"/>
                  <a:pt x="14" y="101"/>
                  <a:pt x="28" y="74"/>
                </a:cubicBezTo>
                <a:cubicBezTo>
                  <a:pt x="42" y="47"/>
                  <a:pt x="67" y="40"/>
                  <a:pt x="91" y="28"/>
                </a:cubicBezTo>
                <a:cubicBezTo>
                  <a:pt x="115" y="16"/>
                  <a:pt x="146" y="2"/>
                  <a:pt x="173" y="1"/>
                </a:cubicBezTo>
                <a:cubicBezTo>
                  <a:pt x="200" y="0"/>
                  <a:pt x="228" y="11"/>
                  <a:pt x="255" y="19"/>
                </a:cubicBezTo>
                <a:cubicBezTo>
                  <a:pt x="282" y="27"/>
                  <a:pt x="316" y="33"/>
                  <a:pt x="337" y="47"/>
                </a:cubicBezTo>
                <a:cubicBezTo>
                  <a:pt x="358" y="61"/>
                  <a:pt x="369" y="80"/>
                  <a:pt x="382" y="101"/>
                </a:cubicBezTo>
                <a:cubicBezTo>
                  <a:pt x="395" y="122"/>
                  <a:pt x="415" y="144"/>
                  <a:pt x="418" y="174"/>
                </a:cubicBezTo>
                <a:cubicBezTo>
                  <a:pt x="421" y="204"/>
                  <a:pt x="417" y="253"/>
                  <a:pt x="400" y="283"/>
                </a:cubicBezTo>
                <a:cubicBezTo>
                  <a:pt x="383" y="313"/>
                  <a:pt x="350" y="341"/>
                  <a:pt x="318" y="356"/>
                </a:cubicBezTo>
                <a:cubicBezTo>
                  <a:pt x="286" y="371"/>
                  <a:pt x="232" y="370"/>
                  <a:pt x="209" y="37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77920" y="2382840"/>
            <a:ext cx="615960" cy="569880"/>
          </a:xfrm>
          <a:custGeom>
            <a:avLst/>
            <a:gdLst/>
            <a:ahLst/>
            <a:rect l="l" t="t" r="r" b="b"/>
            <a:pathLst>
              <a:path w="388" h="359">
                <a:moveTo>
                  <a:pt x="276" y="345"/>
                </a:moveTo>
                <a:cubicBezTo>
                  <a:pt x="258" y="346"/>
                  <a:pt x="199" y="359"/>
                  <a:pt x="167" y="354"/>
                </a:cubicBezTo>
                <a:cubicBezTo>
                  <a:pt x="135" y="349"/>
                  <a:pt x="108" y="329"/>
                  <a:pt x="85" y="317"/>
                </a:cubicBezTo>
                <a:cubicBezTo>
                  <a:pt x="62" y="305"/>
                  <a:pt x="45" y="298"/>
                  <a:pt x="31" y="281"/>
                </a:cubicBezTo>
                <a:cubicBezTo>
                  <a:pt x="17" y="264"/>
                  <a:pt x="6" y="240"/>
                  <a:pt x="3" y="217"/>
                </a:cubicBezTo>
                <a:cubicBezTo>
                  <a:pt x="0" y="194"/>
                  <a:pt x="3" y="171"/>
                  <a:pt x="12" y="145"/>
                </a:cubicBezTo>
                <a:cubicBezTo>
                  <a:pt x="21" y="119"/>
                  <a:pt x="37" y="86"/>
                  <a:pt x="58" y="63"/>
                </a:cubicBezTo>
                <a:cubicBezTo>
                  <a:pt x="79" y="40"/>
                  <a:pt x="107" y="16"/>
                  <a:pt x="140" y="8"/>
                </a:cubicBezTo>
                <a:cubicBezTo>
                  <a:pt x="173" y="0"/>
                  <a:pt x="226" y="8"/>
                  <a:pt x="258" y="17"/>
                </a:cubicBezTo>
                <a:cubicBezTo>
                  <a:pt x="290" y="26"/>
                  <a:pt x="310" y="39"/>
                  <a:pt x="331" y="63"/>
                </a:cubicBezTo>
                <a:cubicBezTo>
                  <a:pt x="352" y="87"/>
                  <a:pt x="382" y="128"/>
                  <a:pt x="385" y="159"/>
                </a:cubicBezTo>
                <a:cubicBezTo>
                  <a:pt x="388" y="190"/>
                  <a:pt x="356" y="230"/>
                  <a:pt x="347" y="24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21357000">
            <a:off x="825120" y="2178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21357000">
            <a:off x="4731120" y="5508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467000" y="1581120"/>
            <a:ext cx="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315040" y="181080"/>
            <a:ext cx="0" cy="70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0360" y="10890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1493640" y="2624040"/>
            <a:ext cx="1299960" cy="284976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14520" y="2655720"/>
            <a:ext cx="506520" cy="1109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815000" y="903240"/>
            <a:ext cx="488880" cy="590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55520" y="535464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78240" y="212868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318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321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97320" y="2090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81360" y="546084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340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343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348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354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314960" y="942480"/>
            <a:ext cx="1009440" cy="11322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21280" y="647640"/>
            <a:ext cx="668160" cy="593640"/>
          </a:xfrm>
          <a:custGeom>
            <a:avLst/>
            <a:gdLst/>
            <a:ahLst/>
            <a:rect l="l" t="t" r="r" b="b"/>
            <a:pathLst>
              <a:path w="421" h="374">
                <a:moveTo>
                  <a:pt x="82" y="274"/>
                </a:moveTo>
                <a:cubicBezTo>
                  <a:pt x="70" y="260"/>
                  <a:pt x="18" y="225"/>
                  <a:pt x="9" y="192"/>
                </a:cubicBezTo>
                <a:cubicBezTo>
                  <a:pt x="0" y="159"/>
                  <a:pt x="14" y="101"/>
                  <a:pt x="28" y="74"/>
                </a:cubicBezTo>
                <a:cubicBezTo>
                  <a:pt x="42" y="47"/>
                  <a:pt x="67" y="40"/>
                  <a:pt x="91" y="28"/>
                </a:cubicBezTo>
                <a:cubicBezTo>
                  <a:pt x="115" y="16"/>
                  <a:pt x="146" y="2"/>
                  <a:pt x="173" y="1"/>
                </a:cubicBezTo>
                <a:cubicBezTo>
                  <a:pt x="200" y="0"/>
                  <a:pt x="228" y="11"/>
                  <a:pt x="255" y="19"/>
                </a:cubicBezTo>
                <a:cubicBezTo>
                  <a:pt x="282" y="27"/>
                  <a:pt x="316" y="33"/>
                  <a:pt x="337" y="47"/>
                </a:cubicBezTo>
                <a:cubicBezTo>
                  <a:pt x="358" y="61"/>
                  <a:pt x="369" y="80"/>
                  <a:pt x="382" y="101"/>
                </a:cubicBezTo>
                <a:cubicBezTo>
                  <a:pt x="395" y="122"/>
                  <a:pt x="415" y="144"/>
                  <a:pt x="418" y="174"/>
                </a:cubicBezTo>
                <a:cubicBezTo>
                  <a:pt x="421" y="204"/>
                  <a:pt x="417" y="253"/>
                  <a:pt x="400" y="283"/>
                </a:cubicBezTo>
                <a:cubicBezTo>
                  <a:pt x="383" y="313"/>
                  <a:pt x="350" y="341"/>
                  <a:pt x="318" y="356"/>
                </a:cubicBezTo>
                <a:cubicBezTo>
                  <a:pt x="286" y="371"/>
                  <a:pt x="232" y="370"/>
                  <a:pt x="209" y="37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77920" y="2382840"/>
            <a:ext cx="615960" cy="569880"/>
          </a:xfrm>
          <a:custGeom>
            <a:avLst/>
            <a:gdLst/>
            <a:ahLst/>
            <a:rect l="l" t="t" r="r" b="b"/>
            <a:pathLst>
              <a:path w="388" h="359">
                <a:moveTo>
                  <a:pt x="276" y="345"/>
                </a:moveTo>
                <a:cubicBezTo>
                  <a:pt x="258" y="346"/>
                  <a:pt x="199" y="359"/>
                  <a:pt x="167" y="354"/>
                </a:cubicBezTo>
                <a:cubicBezTo>
                  <a:pt x="135" y="349"/>
                  <a:pt x="108" y="329"/>
                  <a:pt x="85" y="317"/>
                </a:cubicBezTo>
                <a:cubicBezTo>
                  <a:pt x="62" y="305"/>
                  <a:pt x="45" y="298"/>
                  <a:pt x="31" y="281"/>
                </a:cubicBezTo>
                <a:cubicBezTo>
                  <a:pt x="17" y="264"/>
                  <a:pt x="6" y="240"/>
                  <a:pt x="3" y="217"/>
                </a:cubicBezTo>
                <a:cubicBezTo>
                  <a:pt x="0" y="194"/>
                  <a:pt x="3" y="171"/>
                  <a:pt x="12" y="145"/>
                </a:cubicBezTo>
                <a:cubicBezTo>
                  <a:pt x="21" y="119"/>
                  <a:pt x="37" y="86"/>
                  <a:pt x="58" y="63"/>
                </a:cubicBezTo>
                <a:cubicBezTo>
                  <a:pt x="79" y="40"/>
                  <a:pt x="107" y="16"/>
                  <a:pt x="140" y="8"/>
                </a:cubicBezTo>
                <a:cubicBezTo>
                  <a:pt x="173" y="0"/>
                  <a:pt x="226" y="8"/>
                  <a:pt x="258" y="17"/>
                </a:cubicBezTo>
                <a:cubicBezTo>
                  <a:pt x="290" y="26"/>
                  <a:pt x="310" y="39"/>
                  <a:pt x="331" y="63"/>
                </a:cubicBezTo>
                <a:cubicBezTo>
                  <a:pt x="352" y="87"/>
                  <a:pt x="382" y="128"/>
                  <a:pt x="385" y="159"/>
                </a:cubicBezTo>
                <a:cubicBezTo>
                  <a:pt x="388" y="190"/>
                  <a:pt x="356" y="230"/>
                  <a:pt x="347" y="24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5346200">
            <a:off x="5542920" y="453348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21357000">
            <a:off x="825120" y="2178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1357000">
            <a:off x="4731120" y="5508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1357000">
            <a:off x="5316840" y="4201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467000" y="1581120"/>
            <a:ext cx="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86080" y="2001960"/>
            <a:ext cx="591840" cy="350640"/>
          </a:xfrm>
          <a:custGeom>
            <a:avLst/>
            <a:gdLst/>
            <a:ahLst/>
            <a:rect l="l" t="t" r="r" b="b"/>
            <a:pathLst>
              <a:path w="373" h="221">
                <a:moveTo>
                  <a:pt x="0" y="21"/>
                </a:moveTo>
                <a:cubicBezTo>
                  <a:pt x="20" y="18"/>
                  <a:pt x="82" y="0"/>
                  <a:pt x="118" y="3"/>
                </a:cubicBezTo>
                <a:cubicBezTo>
                  <a:pt x="154" y="6"/>
                  <a:pt x="192" y="25"/>
                  <a:pt x="218" y="39"/>
                </a:cubicBezTo>
                <a:cubicBezTo>
                  <a:pt x="244" y="53"/>
                  <a:pt x="256" y="67"/>
                  <a:pt x="273" y="85"/>
                </a:cubicBezTo>
                <a:cubicBezTo>
                  <a:pt x="290" y="103"/>
                  <a:pt x="301" y="125"/>
                  <a:pt x="318" y="148"/>
                </a:cubicBezTo>
                <a:cubicBezTo>
                  <a:pt x="335" y="171"/>
                  <a:pt x="362" y="206"/>
                  <a:pt x="373" y="221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24400" y="547560"/>
            <a:ext cx="338040" cy="586080"/>
          </a:xfrm>
          <a:custGeom>
            <a:avLst/>
            <a:gdLst/>
            <a:ahLst/>
            <a:rect l="l" t="t" r="r" b="b"/>
            <a:pathLst>
              <a:path w="213" h="369">
                <a:moveTo>
                  <a:pt x="0" y="0"/>
                </a:moveTo>
                <a:cubicBezTo>
                  <a:pt x="20" y="6"/>
                  <a:pt x="88" y="11"/>
                  <a:pt x="118" y="28"/>
                </a:cubicBezTo>
                <a:cubicBezTo>
                  <a:pt x="148" y="45"/>
                  <a:pt x="165" y="77"/>
                  <a:pt x="180" y="105"/>
                </a:cubicBezTo>
                <a:cubicBezTo>
                  <a:pt x="195" y="133"/>
                  <a:pt x="213" y="163"/>
                  <a:pt x="210" y="195"/>
                </a:cubicBezTo>
                <a:cubicBezTo>
                  <a:pt x="207" y="227"/>
                  <a:pt x="191" y="268"/>
                  <a:pt x="162" y="297"/>
                </a:cubicBezTo>
                <a:cubicBezTo>
                  <a:pt x="133" y="326"/>
                  <a:pt x="62" y="354"/>
                  <a:pt x="36" y="36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315040" y="181080"/>
            <a:ext cx="0" cy="70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1594000">
            <a:off x="1755360" y="16110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1594000">
            <a:off x="5650560" y="4219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00360" y="10890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1493640" y="2624040"/>
            <a:ext cx="1299960" cy="284976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1500120" y="938160"/>
            <a:ext cx="3824280" cy="168912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14520" y="2655720"/>
            <a:ext cx="506520" cy="1109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815000" y="903240"/>
            <a:ext cx="488880" cy="590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55520" y="535464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78240" y="212868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382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385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1486080" y="2251080"/>
            <a:ext cx="529920" cy="982800"/>
          </a:xfrm>
          <a:custGeom>
            <a:avLst/>
            <a:gdLst/>
            <a:ahLst/>
            <a:rect l="l" t="t" r="r" b="b"/>
            <a:pathLst>
              <a:path w="334" h="619">
                <a:moveTo>
                  <a:pt x="0" y="0"/>
                </a:moveTo>
                <a:cubicBezTo>
                  <a:pt x="18" y="3"/>
                  <a:pt x="77" y="10"/>
                  <a:pt x="109" y="18"/>
                </a:cubicBezTo>
                <a:cubicBezTo>
                  <a:pt x="141" y="26"/>
                  <a:pt x="161" y="25"/>
                  <a:pt x="191" y="46"/>
                </a:cubicBezTo>
                <a:cubicBezTo>
                  <a:pt x="221" y="67"/>
                  <a:pt x="268" y="111"/>
                  <a:pt x="291" y="146"/>
                </a:cubicBezTo>
                <a:cubicBezTo>
                  <a:pt x="314" y="181"/>
                  <a:pt x="322" y="219"/>
                  <a:pt x="328" y="255"/>
                </a:cubicBezTo>
                <a:cubicBezTo>
                  <a:pt x="334" y="291"/>
                  <a:pt x="334" y="326"/>
                  <a:pt x="328" y="364"/>
                </a:cubicBezTo>
                <a:cubicBezTo>
                  <a:pt x="322" y="402"/>
                  <a:pt x="314" y="440"/>
                  <a:pt x="291" y="482"/>
                </a:cubicBezTo>
                <a:cubicBezTo>
                  <a:pt x="268" y="524"/>
                  <a:pt x="212" y="591"/>
                  <a:pt x="191" y="61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21594000">
            <a:off x="1506240" y="18936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63520" y="471600"/>
                <a:ext cx="1662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913440" y="460440"/>
                <a:ext cx="15512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 rot="21357000">
            <a:off x="2288880" y="2519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06720" y="2367000"/>
            <a:ext cx="176040" cy="606240"/>
          </a:xfrm>
          <a:custGeom>
            <a:avLst/>
            <a:gdLst/>
            <a:ahLst/>
            <a:rect l="l" t="t" r="r" b="b"/>
            <a:pathLst>
              <a:path w="111" h="382">
                <a:moveTo>
                  <a:pt x="0" y="0"/>
                </a:moveTo>
                <a:cubicBezTo>
                  <a:pt x="14" y="18"/>
                  <a:pt x="74" y="68"/>
                  <a:pt x="91" y="109"/>
                </a:cubicBezTo>
                <a:cubicBezTo>
                  <a:pt x="108" y="150"/>
                  <a:pt x="111" y="200"/>
                  <a:pt x="100" y="245"/>
                </a:cubicBezTo>
                <a:cubicBezTo>
                  <a:pt x="89" y="290"/>
                  <a:pt x="42" y="353"/>
                  <a:pt x="27" y="38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7432800">
            <a:off x="4957920" y="1073520"/>
            <a:ext cx="176040" cy="606600"/>
          </a:xfrm>
          <a:custGeom>
            <a:avLst/>
            <a:gdLst/>
            <a:ahLst/>
            <a:rect l="l" t="t" r="r" b="b"/>
            <a:pathLst>
              <a:path w="111" h="382">
                <a:moveTo>
                  <a:pt x="0" y="0"/>
                </a:moveTo>
                <a:cubicBezTo>
                  <a:pt x="14" y="18"/>
                  <a:pt x="74" y="68"/>
                  <a:pt x="91" y="109"/>
                </a:cubicBezTo>
                <a:cubicBezTo>
                  <a:pt x="108" y="150"/>
                  <a:pt x="111" y="200"/>
                  <a:pt x="100" y="245"/>
                </a:cubicBezTo>
                <a:cubicBezTo>
                  <a:pt x="89" y="290"/>
                  <a:pt x="42" y="353"/>
                  <a:pt x="27" y="38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21357000">
            <a:off x="4807800" y="1474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60280" y="946080"/>
                <a:ext cx="16509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912000" y="939960"/>
                <a:ext cx="15382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16120" y="2587680"/>
            <a:ext cx="777240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re are three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östner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lins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sini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östner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408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05440" y="507672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421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5743440" y="4829040"/>
            <a:ext cx="285840" cy="247680"/>
          </a:xfrm>
          <a:custGeom>
            <a:avLst/>
            <a:gdLst/>
            <a:ahLst/>
            <a:rect l="l" t="t" r="r" b="b"/>
            <a:pathLst>
              <a:path w="180" h="156">
                <a:moveTo>
                  <a:pt x="96" y="156"/>
                </a:moveTo>
                <a:lnTo>
                  <a:pt x="36" y="156"/>
                </a:lnTo>
                <a:lnTo>
                  <a:pt x="0" y="108"/>
                </a:lnTo>
                <a:lnTo>
                  <a:pt x="30" y="72"/>
                </a:lnTo>
                <a:lnTo>
                  <a:pt x="24" y="0"/>
                </a:lnTo>
                <a:lnTo>
                  <a:pt x="72" y="12"/>
                </a:lnTo>
                <a:lnTo>
                  <a:pt x="150" y="12"/>
                </a:lnTo>
                <a:lnTo>
                  <a:pt x="180" y="84"/>
                </a:lnTo>
                <a:lnTo>
                  <a:pt x="180" y="144"/>
                </a:lnTo>
                <a:lnTo>
                  <a:pt x="96" y="1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5848200" y="4895640"/>
            <a:ext cx="66960" cy="16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877000" y="4933440"/>
            <a:ext cx="104760" cy="47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800320" y="4991040"/>
            <a:ext cx="104760" cy="28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638680" y="4829040"/>
            <a:ext cx="218880" cy="181080"/>
            <a:chOff x="5638680" y="4829040"/>
            <a:chExt cx="218880" cy="181080"/>
          </a:xfrm>
        </p:grpSpPr>
        <p:sp>
          <p:nvSpPr>
            <p:cNvPr id="432" name=""/>
            <p:cNvSpPr/>
            <p:nvPr/>
          </p:nvSpPr>
          <p:spPr>
            <a:xfrm>
              <a:off x="5734080" y="4832640"/>
              <a:ext cx="0" cy="177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654880" y="4847400"/>
              <a:ext cx="163080" cy="47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38680" y="4829040"/>
              <a:ext cx="185400" cy="73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8320" y="5006520"/>
              <a:ext cx="1292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4656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439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05440" y="507672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455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5743440" y="4829040"/>
            <a:ext cx="285840" cy="247680"/>
          </a:xfrm>
          <a:custGeom>
            <a:avLst/>
            <a:gdLst/>
            <a:ahLst/>
            <a:rect l="l" t="t" r="r" b="b"/>
            <a:pathLst>
              <a:path w="180" h="156">
                <a:moveTo>
                  <a:pt x="96" y="156"/>
                </a:moveTo>
                <a:lnTo>
                  <a:pt x="36" y="156"/>
                </a:lnTo>
                <a:lnTo>
                  <a:pt x="0" y="108"/>
                </a:lnTo>
                <a:lnTo>
                  <a:pt x="30" y="72"/>
                </a:lnTo>
                <a:lnTo>
                  <a:pt x="24" y="0"/>
                </a:lnTo>
                <a:lnTo>
                  <a:pt x="72" y="12"/>
                </a:lnTo>
                <a:lnTo>
                  <a:pt x="150" y="12"/>
                </a:lnTo>
                <a:lnTo>
                  <a:pt x="180" y="84"/>
                </a:lnTo>
                <a:lnTo>
                  <a:pt x="180" y="144"/>
                </a:lnTo>
                <a:lnTo>
                  <a:pt x="96" y="1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848200" y="4895640"/>
            <a:ext cx="66960" cy="16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877000" y="4933440"/>
            <a:ext cx="104760" cy="47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5800320" y="4991040"/>
            <a:ext cx="104760" cy="28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38680" y="4829040"/>
            <a:ext cx="218880" cy="181080"/>
            <a:chOff x="5638680" y="4829040"/>
            <a:chExt cx="218880" cy="181080"/>
          </a:xfrm>
        </p:grpSpPr>
        <p:sp>
          <p:nvSpPr>
            <p:cNvPr id="466" name=""/>
            <p:cNvSpPr/>
            <p:nvPr/>
          </p:nvSpPr>
          <p:spPr>
            <a:xfrm>
              <a:off x="5734080" y="4832640"/>
              <a:ext cx="0" cy="177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654880" y="4847400"/>
              <a:ext cx="163080" cy="47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38680" y="4829040"/>
              <a:ext cx="185400" cy="73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28320" y="5006520"/>
              <a:ext cx="1292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4656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473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476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481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05440" y="507672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494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5743440" y="4829040"/>
            <a:ext cx="285840" cy="247680"/>
          </a:xfrm>
          <a:custGeom>
            <a:avLst/>
            <a:gdLst/>
            <a:ahLst/>
            <a:rect l="l" t="t" r="r" b="b"/>
            <a:pathLst>
              <a:path w="180" h="156">
                <a:moveTo>
                  <a:pt x="96" y="156"/>
                </a:moveTo>
                <a:lnTo>
                  <a:pt x="36" y="156"/>
                </a:lnTo>
                <a:lnTo>
                  <a:pt x="0" y="108"/>
                </a:lnTo>
                <a:lnTo>
                  <a:pt x="30" y="72"/>
                </a:lnTo>
                <a:lnTo>
                  <a:pt x="24" y="0"/>
                </a:lnTo>
                <a:lnTo>
                  <a:pt x="72" y="12"/>
                </a:lnTo>
                <a:lnTo>
                  <a:pt x="150" y="12"/>
                </a:lnTo>
                <a:lnTo>
                  <a:pt x="180" y="84"/>
                </a:lnTo>
                <a:lnTo>
                  <a:pt x="180" y="144"/>
                </a:lnTo>
                <a:lnTo>
                  <a:pt x="96" y="1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5848200" y="4895640"/>
            <a:ext cx="66960" cy="16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877000" y="4933440"/>
            <a:ext cx="104760" cy="47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5800320" y="4991040"/>
            <a:ext cx="104760" cy="28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638680" y="4829040"/>
            <a:ext cx="218880" cy="181080"/>
            <a:chOff x="5638680" y="4829040"/>
            <a:chExt cx="218880" cy="181080"/>
          </a:xfrm>
        </p:grpSpPr>
        <p:sp>
          <p:nvSpPr>
            <p:cNvPr id="505" name=""/>
            <p:cNvSpPr/>
            <p:nvPr/>
          </p:nvSpPr>
          <p:spPr>
            <a:xfrm>
              <a:off x="5734080" y="4832640"/>
              <a:ext cx="0" cy="177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654880" y="4847400"/>
              <a:ext cx="163080" cy="47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38680" y="4829040"/>
              <a:ext cx="185400" cy="73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28320" y="5006520"/>
              <a:ext cx="1292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24656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236120" y="3000960"/>
            <a:ext cx="1493280" cy="1861200"/>
            <a:chOff x="4236120" y="3000960"/>
            <a:chExt cx="1493280" cy="1861200"/>
          </a:xfrm>
        </p:grpSpPr>
        <p:sp>
          <p:nvSpPr>
            <p:cNvPr id="512" name=""/>
            <p:cNvSpPr/>
            <p:nvPr/>
          </p:nvSpPr>
          <p:spPr>
            <a:xfrm>
              <a:off x="4237560" y="3005280"/>
              <a:ext cx="1491840" cy="1856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36120" y="3000960"/>
              <a:ext cx="612360" cy="761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 rot="19891200">
            <a:off x="4510080" y="2744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3461000">
            <a:off x="4233600" y="2898000"/>
            <a:ext cx="388800" cy="276120"/>
          </a:xfrm>
          <a:custGeom>
            <a:avLst/>
            <a:gdLst/>
            <a:ahLst/>
            <a:rect l="l" t="t" r="r" b="b"/>
            <a:pathLst>
              <a:path w="246" h="149">
                <a:moveTo>
                  <a:pt x="246" y="140"/>
                </a:moveTo>
                <a:cubicBezTo>
                  <a:pt x="220" y="137"/>
                  <a:pt x="131" y="149"/>
                  <a:pt x="90" y="126"/>
                </a:cubicBezTo>
                <a:cubicBezTo>
                  <a:pt x="49" y="103"/>
                  <a:pt x="19" y="2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517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520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05440" y="507672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236120" y="3000960"/>
            <a:ext cx="1493280" cy="1861200"/>
            <a:chOff x="4236120" y="3000960"/>
            <a:chExt cx="1493280" cy="1861200"/>
          </a:xfrm>
        </p:grpSpPr>
        <p:sp>
          <p:nvSpPr>
            <p:cNvPr id="538" name=""/>
            <p:cNvSpPr/>
            <p:nvPr/>
          </p:nvSpPr>
          <p:spPr>
            <a:xfrm>
              <a:off x="4237560" y="3005280"/>
              <a:ext cx="1491840" cy="1856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36120" y="3000960"/>
              <a:ext cx="612360" cy="761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541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544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547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550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>
            <a:off x="1400040" y="317988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3440" y="4829040"/>
            <a:ext cx="285840" cy="247680"/>
          </a:xfrm>
          <a:custGeom>
            <a:avLst/>
            <a:gdLst/>
            <a:ahLst/>
            <a:rect l="l" t="t" r="r" b="b"/>
            <a:pathLst>
              <a:path w="180" h="156">
                <a:moveTo>
                  <a:pt x="96" y="156"/>
                </a:moveTo>
                <a:lnTo>
                  <a:pt x="36" y="156"/>
                </a:lnTo>
                <a:lnTo>
                  <a:pt x="0" y="108"/>
                </a:lnTo>
                <a:lnTo>
                  <a:pt x="30" y="72"/>
                </a:lnTo>
                <a:lnTo>
                  <a:pt x="24" y="0"/>
                </a:lnTo>
                <a:lnTo>
                  <a:pt x="72" y="12"/>
                </a:lnTo>
                <a:lnTo>
                  <a:pt x="150" y="12"/>
                </a:lnTo>
                <a:lnTo>
                  <a:pt x="180" y="84"/>
                </a:lnTo>
                <a:lnTo>
                  <a:pt x="180" y="144"/>
                </a:lnTo>
                <a:lnTo>
                  <a:pt x="96" y="1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5848200" y="4895640"/>
            <a:ext cx="66960" cy="16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877000" y="4933440"/>
            <a:ext cx="104760" cy="47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800320" y="4991040"/>
            <a:ext cx="104760" cy="28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638680" y="4829040"/>
            <a:ext cx="218880" cy="181080"/>
            <a:chOff x="5638680" y="4829040"/>
            <a:chExt cx="218880" cy="181080"/>
          </a:xfrm>
        </p:grpSpPr>
        <p:sp>
          <p:nvSpPr>
            <p:cNvPr id="559" name=""/>
            <p:cNvSpPr/>
            <p:nvPr/>
          </p:nvSpPr>
          <p:spPr>
            <a:xfrm>
              <a:off x="5734080" y="4832640"/>
              <a:ext cx="0" cy="177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654880" y="4847400"/>
              <a:ext cx="163080" cy="47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38680" y="4829040"/>
              <a:ext cx="185400" cy="73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28320" y="5006520"/>
              <a:ext cx="1292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4656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9891200">
            <a:off x="4510080" y="2744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3461000">
            <a:off x="4233600" y="2898000"/>
            <a:ext cx="388800" cy="276120"/>
          </a:xfrm>
          <a:custGeom>
            <a:avLst/>
            <a:gdLst/>
            <a:ahLst/>
            <a:rect l="l" t="t" r="r" b="b"/>
            <a:pathLst>
              <a:path w="246" h="149">
                <a:moveTo>
                  <a:pt x="246" y="140"/>
                </a:moveTo>
                <a:cubicBezTo>
                  <a:pt x="220" y="137"/>
                  <a:pt x="131" y="149"/>
                  <a:pt x="90" y="126"/>
                </a:cubicBezTo>
                <a:cubicBezTo>
                  <a:pt x="49" y="103"/>
                  <a:pt x="19" y="2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95600" y="101772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5320" y="491328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at is the Mission of Geodes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ntrol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eodetic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rizont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ertic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urkish Nationa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lassification of Geodeti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tional Geodeti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onnaissance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gress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umbering Control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tion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tion Description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ffects on Geodetic Network Desig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45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572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236120" y="3000960"/>
            <a:ext cx="1493280" cy="1861200"/>
            <a:chOff x="4236120" y="3000960"/>
            <a:chExt cx="1493280" cy="1861200"/>
          </a:xfrm>
        </p:grpSpPr>
        <p:sp>
          <p:nvSpPr>
            <p:cNvPr id="584" name=""/>
            <p:cNvSpPr/>
            <p:nvPr/>
          </p:nvSpPr>
          <p:spPr>
            <a:xfrm>
              <a:off x="4237560" y="3005280"/>
              <a:ext cx="1491840" cy="1856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36120" y="3000960"/>
              <a:ext cx="612360" cy="761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587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590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9891200">
            <a:off x="4510080" y="2744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081320" y="2881440"/>
            <a:ext cx="361800" cy="694800"/>
            <a:chOff x="4081320" y="2881440"/>
            <a:chExt cx="361800" cy="694800"/>
          </a:xfrm>
        </p:grpSpPr>
        <p:sp>
          <p:nvSpPr>
            <p:cNvPr id="596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16320" y="288144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4081320" y="3090960"/>
              <a:ext cx="361800" cy="485280"/>
              <a:chOff x="4081320" y="3090960"/>
              <a:chExt cx="361800" cy="485280"/>
            </a:xfrm>
          </p:grpSpPr>
          <p:sp>
            <p:nvSpPr>
              <p:cNvPr id="599" name=""/>
              <p:cNvSpPr/>
              <p:nvPr/>
            </p:nvSpPr>
            <p:spPr>
              <a:xfrm flipH="1">
                <a:off x="4081320" y="3090960"/>
                <a:ext cx="171360" cy="36648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271760" y="3101040"/>
                <a:ext cx="171360" cy="31680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223880" y="3090960"/>
                <a:ext cx="28800" cy="48528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 rot="13461000">
            <a:off x="4233600" y="2898000"/>
            <a:ext cx="388800" cy="276120"/>
          </a:xfrm>
          <a:custGeom>
            <a:avLst/>
            <a:gdLst/>
            <a:ahLst/>
            <a:rect l="l" t="t" r="r" b="b"/>
            <a:pathLst>
              <a:path w="246" h="149">
                <a:moveTo>
                  <a:pt x="246" y="140"/>
                </a:moveTo>
                <a:cubicBezTo>
                  <a:pt x="220" y="137"/>
                  <a:pt x="131" y="149"/>
                  <a:pt x="90" y="126"/>
                </a:cubicBezTo>
                <a:cubicBezTo>
                  <a:pt x="49" y="103"/>
                  <a:pt x="19" y="2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800360" y="1076400"/>
            <a:ext cx="3524040" cy="224784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00360" y="3324240"/>
            <a:ext cx="3925800" cy="155088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5324400" y="1085760"/>
            <a:ext cx="411120" cy="377352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607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613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3720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19040" y="185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105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59440" y="29844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64600" y="33559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35840" y="183204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95360" y="3000240"/>
            <a:ext cx="95400" cy="25740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9630600">
            <a:off x="4943520" y="1324080"/>
            <a:ext cx="9504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7494000">
            <a:off x="5180760" y="1380600"/>
            <a:ext cx="95400" cy="25740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5640800">
            <a:off x="5500440" y="4300200"/>
            <a:ext cx="9504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20130600">
            <a:off x="2353320" y="2763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20130600">
            <a:off x="5276160" y="39304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980600">
            <a:off x="4672800" y="1303560"/>
            <a:ext cx="44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856800">
            <a:off x="4984920" y="1497960"/>
            <a:ext cx="44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79240" y="31798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47440" y="10177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83800" y="49132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14880" y="1219320"/>
            <a:ext cx="227160" cy="98280"/>
          </a:xfrm>
          <a:custGeom>
            <a:avLst/>
            <a:gdLst/>
            <a:ahLst/>
            <a:rect l="l" t="t" r="r" b="b"/>
            <a:pathLst>
              <a:path w="143" h="62">
                <a:moveTo>
                  <a:pt x="143" y="48"/>
                </a:moveTo>
                <a:cubicBezTo>
                  <a:pt x="127" y="49"/>
                  <a:pt x="72" y="62"/>
                  <a:pt x="48" y="54"/>
                </a:cubicBezTo>
                <a:cubicBezTo>
                  <a:pt x="24" y="46"/>
                  <a:pt x="10" y="11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980600">
            <a:off x="4925880" y="10994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714240" y="1071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, b,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an be obtained using the coordinates of station A, B a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an be obtained as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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3254400" y="3502080"/>
                <a:ext cx="2943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135240" y="4753080"/>
                <a:ext cx="31989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62400" y="539640"/>
                <a:ext cx="2705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24240" y="1647720"/>
                <a:ext cx="2819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046400" y="2793960"/>
                <a:ext cx="1295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200240" y="3454560"/>
                <a:ext cx="70689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g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g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674800" y="4759200"/>
                <a:ext cx="42465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869840" y="3699000"/>
            <a:ext cx="609732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abov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obtained.  Thereafter coordinates of the stations are obtained as in intersection method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573360" y="635040"/>
                <a:ext cx="20844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3125880" y="1727280"/>
                <a:ext cx="29430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2544840" y="2679840"/>
                <a:ext cx="4246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g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650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09720" y="33148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36120" y="3000960"/>
            <a:ext cx="1493280" cy="1861200"/>
            <a:chOff x="4236120" y="3000960"/>
            <a:chExt cx="1493280" cy="1861200"/>
          </a:xfrm>
        </p:grpSpPr>
        <p:sp>
          <p:nvSpPr>
            <p:cNvPr id="662" name=""/>
            <p:cNvSpPr/>
            <p:nvPr/>
          </p:nvSpPr>
          <p:spPr>
            <a:xfrm>
              <a:off x="4237560" y="3005280"/>
              <a:ext cx="1491840" cy="1856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36120" y="3000960"/>
              <a:ext cx="612360" cy="761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235040" y="1081080"/>
            <a:ext cx="1089360" cy="1945440"/>
            <a:chOff x="4235040" y="1081080"/>
            <a:chExt cx="1089360" cy="1945440"/>
          </a:xfrm>
        </p:grpSpPr>
        <p:sp>
          <p:nvSpPr>
            <p:cNvPr id="665" name=""/>
            <p:cNvSpPr/>
            <p:nvPr/>
          </p:nvSpPr>
          <p:spPr>
            <a:xfrm flipV="1">
              <a:off x="4236840" y="1081080"/>
              <a:ext cx="1087560" cy="19404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235040" y="2230920"/>
              <a:ext cx="446400" cy="795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837800" y="3015000"/>
            <a:ext cx="2419200" cy="294840"/>
            <a:chOff x="1837800" y="3015000"/>
            <a:chExt cx="2419200" cy="294840"/>
          </a:xfrm>
        </p:grpSpPr>
        <p:sp>
          <p:nvSpPr>
            <p:cNvPr id="668" name=""/>
            <p:cNvSpPr/>
            <p:nvPr/>
          </p:nvSpPr>
          <p:spPr>
            <a:xfrm flipH="1">
              <a:off x="1837800" y="3015360"/>
              <a:ext cx="2415960" cy="2944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3265200" y="3015000"/>
              <a:ext cx="991800" cy="120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4010040" y="2706840"/>
            <a:ext cx="393840" cy="334800"/>
          </a:xfrm>
          <a:custGeom>
            <a:avLst/>
            <a:gdLst/>
            <a:ahLst/>
            <a:rect l="l" t="t" r="r" b="b"/>
            <a:pathLst>
              <a:path w="248" h="211">
                <a:moveTo>
                  <a:pt x="0" y="211"/>
                </a:moveTo>
                <a:cubicBezTo>
                  <a:pt x="10" y="182"/>
                  <a:pt x="19" y="70"/>
                  <a:pt x="60" y="35"/>
                </a:cubicBezTo>
                <a:cubicBezTo>
                  <a:pt x="101" y="0"/>
                  <a:pt x="209" y="8"/>
                  <a:pt x="248" y="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18463800">
            <a:off x="3846960" y="2351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9891200">
            <a:off x="4510080" y="2744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4081320" y="2881440"/>
            <a:ext cx="361800" cy="694440"/>
            <a:chOff x="4081320" y="2881440"/>
            <a:chExt cx="361800" cy="694440"/>
          </a:xfrm>
        </p:grpSpPr>
        <p:sp>
          <p:nvSpPr>
            <p:cNvPr id="674" name=""/>
            <p:cNvSpPr/>
            <p:nvPr/>
          </p:nvSpPr>
          <p:spPr>
            <a:xfrm>
              <a:off x="4119480" y="299556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16320" y="2881440"/>
              <a:ext cx="7452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081320" y="3090600"/>
              <a:ext cx="361800" cy="485280"/>
              <a:chOff x="4081320" y="3090600"/>
              <a:chExt cx="361800" cy="485280"/>
            </a:xfrm>
          </p:grpSpPr>
          <p:sp>
            <p:nvSpPr>
              <p:cNvPr id="677" name=""/>
              <p:cNvSpPr/>
              <p:nvPr/>
            </p:nvSpPr>
            <p:spPr>
              <a:xfrm flipH="1">
                <a:off x="4081320" y="30906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271760" y="31006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4223880" y="30906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" name=""/>
          <p:cNvSpPr/>
          <p:nvPr/>
        </p:nvSpPr>
        <p:spPr>
          <a:xfrm rot="13461000">
            <a:off x="4233600" y="2898000"/>
            <a:ext cx="388800" cy="276120"/>
          </a:xfrm>
          <a:custGeom>
            <a:avLst/>
            <a:gdLst/>
            <a:ahLst/>
            <a:rect l="l" t="t" r="r" b="b"/>
            <a:pathLst>
              <a:path w="246" h="149">
                <a:moveTo>
                  <a:pt x="246" y="140"/>
                </a:moveTo>
                <a:cubicBezTo>
                  <a:pt x="220" y="137"/>
                  <a:pt x="131" y="149"/>
                  <a:pt x="90" y="126"/>
                </a:cubicBezTo>
                <a:cubicBezTo>
                  <a:pt x="49" y="103"/>
                  <a:pt x="19" y="2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800360" y="1076400"/>
            <a:ext cx="3524040" cy="224784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00360" y="3324240"/>
            <a:ext cx="3925800" cy="155088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5324400" y="1085760"/>
            <a:ext cx="411120" cy="377352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685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691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5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37200" y="33498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9040" y="185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105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59440" y="29844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64600" y="33559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35840" y="183204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95360" y="3000240"/>
            <a:ext cx="95400" cy="25740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9630600">
            <a:off x="4943520" y="1324080"/>
            <a:ext cx="9504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7494000">
            <a:off x="5180760" y="1380600"/>
            <a:ext cx="95400" cy="25740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5640800">
            <a:off x="5500440" y="4300200"/>
            <a:ext cx="9504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20130600">
            <a:off x="2353320" y="2763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20130600">
            <a:off x="5276160" y="39304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rot="1980600">
            <a:off x="4672800" y="1303560"/>
            <a:ext cx="44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856800">
            <a:off x="4984920" y="1497960"/>
            <a:ext cx="44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79240" y="31798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47440" y="10177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83800" y="49132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14880" y="1219320"/>
            <a:ext cx="227160" cy="98280"/>
          </a:xfrm>
          <a:custGeom>
            <a:avLst/>
            <a:gdLst/>
            <a:ahLst/>
            <a:rect l="l" t="t" r="r" b="b"/>
            <a:pathLst>
              <a:path w="143" h="62">
                <a:moveTo>
                  <a:pt x="143" y="48"/>
                </a:moveTo>
                <a:cubicBezTo>
                  <a:pt x="127" y="49"/>
                  <a:pt x="72" y="62"/>
                  <a:pt x="48" y="54"/>
                </a:cubicBezTo>
                <a:cubicBezTo>
                  <a:pt x="24" y="46"/>
                  <a:pt x="10" y="11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980600">
            <a:off x="4925880" y="10994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lins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718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68760" y="116856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895480" y="550404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527120" y="3034800"/>
            <a:ext cx="4641480" cy="1489320"/>
            <a:chOff x="1527120" y="3034800"/>
            <a:chExt cx="4641480" cy="1489320"/>
          </a:xfrm>
        </p:grpSpPr>
        <p:sp>
          <p:nvSpPr>
            <p:cNvPr id="730" name=""/>
            <p:cNvSpPr/>
            <p:nvPr/>
          </p:nvSpPr>
          <p:spPr>
            <a:xfrm flipH="1" flipV="1">
              <a:off x="1527120" y="3034800"/>
              <a:ext cx="4634640" cy="148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4265640" y="3915000"/>
              <a:ext cx="1902960" cy="609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611160" y="2182320"/>
            <a:ext cx="2635200" cy="2301480"/>
            <a:chOff x="3611160" y="2182320"/>
            <a:chExt cx="2635200" cy="2301480"/>
          </a:xfrm>
        </p:grpSpPr>
        <p:sp>
          <p:nvSpPr>
            <p:cNvPr id="733" name=""/>
            <p:cNvSpPr/>
            <p:nvPr/>
          </p:nvSpPr>
          <p:spPr>
            <a:xfrm flipH="1" flipV="1">
              <a:off x="3611160" y="2182320"/>
              <a:ext cx="2631240" cy="229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5166000" y="3542760"/>
              <a:ext cx="1080360" cy="941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2972880" y="4483440"/>
            <a:ext cx="3235320" cy="1015560"/>
            <a:chOff x="2972880" y="4483440"/>
            <a:chExt cx="3235320" cy="1015560"/>
          </a:xfrm>
        </p:grpSpPr>
        <p:sp>
          <p:nvSpPr>
            <p:cNvPr id="736" name=""/>
            <p:cNvSpPr/>
            <p:nvPr/>
          </p:nvSpPr>
          <p:spPr>
            <a:xfrm flipH="1">
              <a:off x="2972880" y="4485960"/>
              <a:ext cx="3230280" cy="1013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4881960" y="4483440"/>
              <a:ext cx="1326240" cy="415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035760" y="4379760"/>
            <a:ext cx="361800" cy="695160"/>
            <a:chOff x="6035760" y="4379760"/>
            <a:chExt cx="361800" cy="695160"/>
          </a:xfrm>
        </p:grpSpPr>
        <p:sp>
          <p:nvSpPr>
            <p:cNvPr id="739" name=""/>
            <p:cNvSpPr/>
            <p:nvPr/>
          </p:nvSpPr>
          <p:spPr>
            <a:xfrm>
              <a:off x="6073560" y="449424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70400" y="4379760"/>
              <a:ext cx="7416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6035760" y="4589280"/>
              <a:ext cx="361800" cy="485640"/>
              <a:chOff x="6035760" y="4589280"/>
              <a:chExt cx="361800" cy="485640"/>
            </a:xfrm>
          </p:grpSpPr>
          <p:sp>
            <p:nvSpPr>
              <p:cNvPr id="742" name=""/>
              <p:cNvSpPr/>
              <p:nvPr/>
            </p:nvSpPr>
            <p:spPr>
              <a:xfrm flipH="1">
                <a:off x="6035760" y="458928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226200" y="4599360"/>
                <a:ext cx="171360" cy="3171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178320" y="4589280"/>
                <a:ext cx="28800" cy="485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5" name=""/>
          <p:cNvSpPr/>
          <p:nvPr/>
        </p:nvSpPr>
        <p:spPr>
          <a:xfrm rot="13074600">
            <a:off x="2318760" y="2077200"/>
            <a:ext cx="3919320" cy="399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91280" y="48340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65200" y="29797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511360" y="2136600"/>
            <a:ext cx="1154160" cy="11829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496960" y="3333600"/>
            <a:ext cx="360720" cy="216540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0320" y="41227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9016400">
            <a:off x="5587920" y="43765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2901960" y="2129400"/>
            <a:ext cx="767160" cy="33613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571480" y="540216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59120" y="2835360"/>
            <a:ext cx="3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637440" y="1824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18463800">
            <a:off x="5161320" y="42555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8463800">
            <a:off x="5332320" y="3867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6929600">
            <a:off x="3386880" y="242136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5218800">
            <a:off x="2818440" y="48124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6254400">
            <a:off x="3013200" y="519480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4045400">
            <a:off x="3656520" y="230184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8607000">
            <a:off x="2666520" y="3172680"/>
            <a:ext cx="13680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11572800">
            <a:off x="2607480" y="34030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8463800">
            <a:off x="2847960" y="301356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8463800">
            <a:off x="2745000" y="354888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8463800">
            <a:off x="2746080" y="4472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8463800">
            <a:off x="3117600" y="4916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20151000">
            <a:off x="3159720" y="2514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19800000">
            <a:off x="3639600" y="24109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20800" y="49482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7840" y="760320"/>
                <a:ext cx="1004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25520" y="1197000"/>
                <a:ext cx="1517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141640" y="1238400"/>
                <a:ext cx="1433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4" name=""/>
          <p:cNvSpPr/>
          <p:nvPr/>
        </p:nvSpPr>
        <p:spPr>
          <a:xfrm>
            <a:off x="2236320" y="29732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77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68760" y="116856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550404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35040" y="3295440"/>
            <a:ext cx="3733560" cy="1228680"/>
            <a:chOff x="2435040" y="3295440"/>
            <a:chExt cx="3733560" cy="1228680"/>
          </a:xfrm>
        </p:grpSpPr>
        <p:sp>
          <p:nvSpPr>
            <p:cNvPr id="788" name=""/>
            <p:cNvSpPr/>
            <p:nvPr/>
          </p:nvSpPr>
          <p:spPr>
            <a:xfrm flipH="1" flipV="1">
              <a:off x="2435040" y="3295440"/>
              <a:ext cx="3727800" cy="1225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4637880" y="4021560"/>
              <a:ext cx="1530720" cy="502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611160" y="2182320"/>
            <a:ext cx="2635200" cy="2301480"/>
            <a:chOff x="3611160" y="2182320"/>
            <a:chExt cx="2635200" cy="2301480"/>
          </a:xfrm>
        </p:grpSpPr>
        <p:sp>
          <p:nvSpPr>
            <p:cNvPr id="791" name=""/>
            <p:cNvSpPr/>
            <p:nvPr/>
          </p:nvSpPr>
          <p:spPr>
            <a:xfrm flipH="1" flipV="1">
              <a:off x="3611160" y="2182320"/>
              <a:ext cx="2631240" cy="229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5166000" y="3542760"/>
              <a:ext cx="1080360" cy="941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972880" y="4483440"/>
            <a:ext cx="3235320" cy="1015560"/>
            <a:chOff x="2972880" y="4483440"/>
            <a:chExt cx="3235320" cy="1015560"/>
          </a:xfrm>
        </p:grpSpPr>
        <p:sp>
          <p:nvSpPr>
            <p:cNvPr id="794" name=""/>
            <p:cNvSpPr/>
            <p:nvPr/>
          </p:nvSpPr>
          <p:spPr>
            <a:xfrm flipH="1">
              <a:off x="2972880" y="4485960"/>
              <a:ext cx="3230280" cy="1013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881960" y="4483440"/>
              <a:ext cx="1326240" cy="415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6035760" y="4379760"/>
            <a:ext cx="361800" cy="695160"/>
            <a:chOff x="6035760" y="4379760"/>
            <a:chExt cx="361800" cy="695160"/>
          </a:xfrm>
        </p:grpSpPr>
        <p:sp>
          <p:nvSpPr>
            <p:cNvPr id="797" name=""/>
            <p:cNvSpPr/>
            <p:nvPr/>
          </p:nvSpPr>
          <p:spPr>
            <a:xfrm>
              <a:off x="6073560" y="449424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70400" y="4379760"/>
              <a:ext cx="7416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6035760" y="4589280"/>
              <a:ext cx="361800" cy="485640"/>
              <a:chOff x="6035760" y="4589280"/>
              <a:chExt cx="361800" cy="485640"/>
            </a:xfrm>
          </p:grpSpPr>
          <p:sp>
            <p:nvSpPr>
              <p:cNvPr id="800" name=""/>
              <p:cNvSpPr/>
              <p:nvPr/>
            </p:nvSpPr>
            <p:spPr>
              <a:xfrm flipH="1">
                <a:off x="6035760" y="458928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226200" y="4599360"/>
                <a:ext cx="171360" cy="3171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6178320" y="4589280"/>
                <a:ext cx="28800" cy="485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3" name=""/>
          <p:cNvSpPr/>
          <p:nvPr/>
        </p:nvSpPr>
        <p:spPr>
          <a:xfrm rot="13074600">
            <a:off x="2318760" y="2077200"/>
            <a:ext cx="3919320" cy="399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191280" y="48340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74960" y="3701880"/>
            <a:ext cx="7488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2511360" y="2136600"/>
            <a:ext cx="1154160" cy="11829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6960" y="3333600"/>
            <a:ext cx="360720" cy="216540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10320" y="41227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19016400">
            <a:off x="5587920" y="43765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901960" y="2129400"/>
            <a:ext cx="767160" cy="33613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1480" y="540216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686400" y="3427560"/>
            <a:ext cx="3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37440" y="1824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18463800">
            <a:off x="5161320" y="42555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8463800">
            <a:off x="5332320" y="3867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16929600">
            <a:off x="3386880" y="242136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5218800">
            <a:off x="2818440" y="48124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6254400">
            <a:off x="3013200" y="519480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4045400">
            <a:off x="3656520" y="230184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rot="8607000">
            <a:off x="2666520" y="3172680"/>
            <a:ext cx="13680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1572800">
            <a:off x="2607480" y="34030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8463800">
            <a:off x="2847960" y="301356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8463800">
            <a:off x="2745000" y="354888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18463800">
            <a:off x="2746080" y="4472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8463800">
            <a:off x="3117600" y="4916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0151000">
            <a:off x="3159720" y="2514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19800000">
            <a:off x="3639600" y="24109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20800" y="49482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447840" y="760320"/>
                <a:ext cx="1004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425520" y="1177920"/>
                <a:ext cx="153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2131920" y="1238400"/>
                <a:ext cx="1454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2236320" y="29732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834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68760" y="116856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95480" y="550404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611160" y="2182320"/>
            <a:ext cx="2635200" cy="2301480"/>
            <a:chOff x="3611160" y="2182320"/>
            <a:chExt cx="2635200" cy="2301480"/>
          </a:xfrm>
        </p:grpSpPr>
        <p:sp>
          <p:nvSpPr>
            <p:cNvPr id="846" name=""/>
            <p:cNvSpPr/>
            <p:nvPr/>
          </p:nvSpPr>
          <p:spPr>
            <a:xfrm flipH="1" flipV="1">
              <a:off x="3611160" y="2182320"/>
              <a:ext cx="2631240" cy="229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5166000" y="3542760"/>
              <a:ext cx="1080360" cy="941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972880" y="4483440"/>
            <a:ext cx="3235320" cy="1015560"/>
            <a:chOff x="2972880" y="4483440"/>
            <a:chExt cx="3235320" cy="1015560"/>
          </a:xfrm>
        </p:grpSpPr>
        <p:sp>
          <p:nvSpPr>
            <p:cNvPr id="849" name=""/>
            <p:cNvSpPr/>
            <p:nvPr/>
          </p:nvSpPr>
          <p:spPr>
            <a:xfrm flipH="1">
              <a:off x="2972880" y="4485960"/>
              <a:ext cx="3230280" cy="1013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881960" y="4483440"/>
              <a:ext cx="1326240" cy="415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 rot="13074600">
            <a:off x="2318760" y="2077200"/>
            <a:ext cx="3919320" cy="399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91280" y="48340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393040" y="505764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511360" y="2136600"/>
            <a:ext cx="1154160" cy="11829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496960" y="3333600"/>
            <a:ext cx="360720" cy="216540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10320" y="41227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9016400">
            <a:off x="5587920" y="437652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901960" y="2129400"/>
            <a:ext cx="767160" cy="33613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71480" y="540216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359920" y="4697280"/>
            <a:ext cx="3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37440" y="1824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rot="21287400">
            <a:off x="6359400" y="4632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342800">
            <a:off x="6455160" y="3754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16929600">
            <a:off x="3386880" y="242136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5218800">
            <a:off x="2818440" y="48124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rot="6254400">
            <a:off x="3013200" y="519480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14045400">
            <a:off x="3656520" y="230184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8607000">
            <a:off x="2666520" y="3172680"/>
            <a:ext cx="13680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rot="11572800">
            <a:off x="2607480" y="3403080"/>
            <a:ext cx="136440" cy="236520"/>
          </a:xfrm>
          <a:custGeom>
            <a:avLst/>
            <a:gdLst/>
            <a:ahLst/>
            <a:rect l="l" t="t" r="r" b="b"/>
            <a:pathLst>
              <a:path w="86" h="149">
                <a:moveTo>
                  <a:pt x="12" y="149"/>
                </a:moveTo>
                <a:cubicBezTo>
                  <a:pt x="11" y="134"/>
                  <a:pt x="0" y="83"/>
                  <a:pt x="12" y="58"/>
                </a:cubicBezTo>
                <a:cubicBezTo>
                  <a:pt x="24" y="33"/>
                  <a:pt x="71" y="12"/>
                  <a:pt x="8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18463800">
            <a:off x="2847960" y="301356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18463800">
            <a:off x="2745000" y="354888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16762200">
            <a:off x="2596680" y="43542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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8463800">
            <a:off x="3117600" y="4916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17868000">
            <a:off x="2911680" y="272124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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19800000">
            <a:off x="3639600" y="24109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220800" y="49482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47840" y="760320"/>
                <a:ext cx="1004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395280" y="1219320"/>
                <a:ext cx="1490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131920" y="1238400"/>
                <a:ext cx="1454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>
            <a:off x="2236320" y="29732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2452680" y="3319560"/>
            <a:ext cx="3851280" cy="122688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035760" y="4379760"/>
            <a:ext cx="361800" cy="695160"/>
            <a:chOff x="6035760" y="4379760"/>
            <a:chExt cx="361800" cy="695160"/>
          </a:xfrm>
        </p:grpSpPr>
        <p:sp>
          <p:nvSpPr>
            <p:cNvPr id="883" name=""/>
            <p:cNvSpPr/>
            <p:nvPr/>
          </p:nvSpPr>
          <p:spPr>
            <a:xfrm>
              <a:off x="6073560" y="449424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170400" y="4379760"/>
              <a:ext cx="7416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6035760" y="4589280"/>
              <a:ext cx="361800" cy="485640"/>
              <a:chOff x="6035760" y="4589280"/>
              <a:chExt cx="361800" cy="485640"/>
            </a:xfrm>
          </p:grpSpPr>
          <p:sp>
            <p:nvSpPr>
              <p:cNvPr id="886" name=""/>
              <p:cNvSpPr/>
              <p:nvPr/>
            </p:nvSpPr>
            <p:spPr>
              <a:xfrm flipH="1">
                <a:off x="6035760" y="458928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226200" y="4599360"/>
                <a:ext cx="171360" cy="3171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6178320" y="4589280"/>
                <a:ext cx="28800" cy="485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9" name=""/>
          <p:cNvSpPr/>
          <p:nvPr/>
        </p:nvSpPr>
        <p:spPr>
          <a:xfrm>
            <a:off x="5931000" y="4124160"/>
            <a:ext cx="696960" cy="479520"/>
          </a:xfrm>
          <a:custGeom>
            <a:avLst/>
            <a:gdLst/>
            <a:ahLst/>
            <a:rect l="l" t="t" r="r" b="b"/>
            <a:pathLst>
              <a:path w="439" h="302">
                <a:moveTo>
                  <a:pt x="0" y="29"/>
                </a:moveTo>
                <a:cubicBezTo>
                  <a:pt x="27" y="24"/>
                  <a:pt x="113" y="0"/>
                  <a:pt x="164" y="2"/>
                </a:cubicBezTo>
                <a:cubicBezTo>
                  <a:pt x="215" y="4"/>
                  <a:pt x="267" y="12"/>
                  <a:pt x="309" y="39"/>
                </a:cubicBezTo>
                <a:cubicBezTo>
                  <a:pt x="351" y="66"/>
                  <a:pt x="397" y="122"/>
                  <a:pt x="418" y="166"/>
                </a:cubicBezTo>
                <a:cubicBezTo>
                  <a:pt x="439" y="210"/>
                  <a:pt x="432" y="274"/>
                  <a:pt x="436" y="30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843520" y="4603680"/>
            <a:ext cx="814320" cy="258840"/>
          </a:xfrm>
          <a:custGeom>
            <a:avLst/>
            <a:gdLst/>
            <a:ahLst/>
            <a:rect l="l" t="t" r="r" b="b"/>
            <a:pathLst>
              <a:path w="513" h="163">
                <a:moveTo>
                  <a:pt x="513" y="28"/>
                </a:moveTo>
                <a:cubicBezTo>
                  <a:pt x="491" y="44"/>
                  <a:pt x="425" y="104"/>
                  <a:pt x="378" y="125"/>
                </a:cubicBezTo>
                <a:cubicBezTo>
                  <a:pt x="332" y="147"/>
                  <a:pt x="282" y="163"/>
                  <a:pt x="232" y="158"/>
                </a:cubicBezTo>
                <a:cubicBezTo>
                  <a:pt x="183" y="152"/>
                  <a:pt x="117" y="119"/>
                  <a:pt x="78" y="93"/>
                </a:cubicBezTo>
                <a:cubicBezTo>
                  <a:pt x="39" y="67"/>
                  <a:pt x="16" y="19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1628400">
            <a:off x="5121720" y="38732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Symbol"/>
                <a:ea typeface="Symbol"/>
              </a:rPr>
              <a:t>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21348600">
            <a:off x="4915800" y="431604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Symbol"/>
                <a:ea typeface="Symbol"/>
              </a:rPr>
              <a:t>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6169680" y="4524840"/>
            <a:ext cx="2269800" cy="588600"/>
            <a:chOff x="6169680" y="4524840"/>
            <a:chExt cx="2269800" cy="588600"/>
          </a:xfrm>
        </p:grpSpPr>
        <p:sp>
          <p:nvSpPr>
            <p:cNvPr id="894" name=""/>
            <p:cNvSpPr/>
            <p:nvPr/>
          </p:nvSpPr>
          <p:spPr>
            <a:xfrm>
              <a:off x="6172560" y="4525920"/>
              <a:ext cx="2266920" cy="5875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69680" y="4524840"/>
              <a:ext cx="930600" cy="240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28640" y="1854360"/>
            <a:ext cx="77724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rdinat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nd Sta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 Control S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rection 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djustment of Observations At A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xis of Theodo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rrors of Theodo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tural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ersonal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mmon Mist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ccentric Measurements for Direction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stance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ductions for Distance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ositioning with Intersec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ositioning with Resec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ordinating Ground Station of High Control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ecise Trave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ertical Control Network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52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3161160" y="510120"/>
            <a:ext cx="5616000" cy="5079960"/>
            <a:chOff x="3161160" y="510120"/>
            <a:chExt cx="5616000" cy="5079960"/>
          </a:xfrm>
        </p:grpSpPr>
        <p:sp>
          <p:nvSpPr>
            <p:cNvPr id="899" name=""/>
            <p:cNvSpPr/>
            <p:nvPr/>
          </p:nvSpPr>
          <p:spPr>
            <a:xfrm flipV="1">
              <a:off x="3168360" y="510120"/>
              <a:ext cx="5608800" cy="5068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3161160" y="3511080"/>
              <a:ext cx="2303280" cy="2079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61800" y="1699560"/>
            <a:ext cx="1662480" cy="4249440"/>
            <a:chOff x="361800" y="1699560"/>
            <a:chExt cx="1662480" cy="4249440"/>
          </a:xfrm>
        </p:grpSpPr>
        <p:sp>
          <p:nvSpPr>
            <p:cNvPr id="902" name=""/>
            <p:cNvSpPr/>
            <p:nvPr/>
          </p:nvSpPr>
          <p:spPr>
            <a:xfrm flipV="1">
              <a:off x="361800" y="1699560"/>
              <a:ext cx="1662480" cy="42494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363240" y="4188240"/>
              <a:ext cx="683640" cy="1742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90680" y="5281560"/>
            <a:ext cx="585720" cy="666720"/>
            <a:chOff x="490680" y="5281560"/>
            <a:chExt cx="585720" cy="666720"/>
          </a:xfrm>
        </p:grpSpPr>
        <p:sp>
          <p:nvSpPr>
            <p:cNvPr id="905" name=""/>
            <p:cNvSpPr/>
            <p:nvPr/>
          </p:nvSpPr>
          <p:spPr>
            <a:xfrm>
              <a:off x="490680" y="5557680"/>
              <a:ext cx="395280" cy="390600"/>
            </a:xfrm>
            <a:custGeom>
              <a:avLst/>
              <a:gdLst/>
              <a:ahLst/>
              <a:rect l="l" t="t" r="r" b="b"/>
              <a:pathLst>
                <a:path w="195" h="246">
                  <a:moveTo>
                    <a:pt x="0" y="0"/>
                  </a:moveTo>
                  <a:cubicBezTo>
                    <a:pt x="56" y="20"/>
                    <a:pt x="112" y="40"/>
                    <a:pt x="144" y="81"/>
                  </a:cubicBezTo>
                  <a:cubicBezTo>
                    <a:pt x="176" y="122"/>
                    <a:pt x="186" y="219"/>
                    <a:pt x="195" y="246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1480" y="52815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462040" y="4971960"/>
            <a:ext cx="609840" cy="676440"/>
            <a:chOff x="2462040" y="4971960"/>
            <a:chExt cx="609840" cy="676440"/>
          </a:xfrm>
        </p:grpSpPr>
        <p:sp>
          <p:nvSpPr>
            <p:cNvPr id="908" name=""/>
            <p:cNvSpPr/>
            <p:nvPr/>
          </p:nvSpPr>
          <p:spPr>
            <a:xfrm>
              <a:off x="2779560" y="5234040"/>
              <a:ext cx="292320" cy="414360"/>
            </a:xfrm>
            <a:custGeom>
              <a:avLst/>
              <a:gdLst/>
              <a:ahLst/>
              <a:rect l="l" t="t" r="r" b="b"/>
              <a:pathLst>
                <a:path w="184" h="261">
                  <a:moveTo>
                    <a:pt x="34" y="261"/>
                  </a:moveTo>
                  <a:cubicBezTo>
                    <a:pt x="17" y="194"/>
                    <a:pt x="0" y="127"/>
                    <a:pt x="25" y="84"/>
                  </a:cubicBezTo>
                  <a:cubicBezTo>
                    <a:pt x="50" y="41"/>
                    <a:pt x="117" y="20"/>
                    <a:pt x="18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62040" y="49719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045600" y="4595760"/>
            <a:ext cx="507240" cy="759240"/>
            <a:chOff x="3045600" y="4595760"/>
            <a:chExt cx="507240" cy="759240"/>
          </a:xfrm>
        </p:grpSpPr>
        <p:sp>
          <p:nvSpPr>
            <p:cNvPr id="911" name=""/>
            <p:cNvSpPr/>
            <p:nvPr/>
          </p:nvSpPr>
          <p:spPr>
            <a:xfrm rot="5149200">
              <a:off x="3116880" y="4986720"/>
              <a:ext cx="291960" cy="414360"/>
            </a:xfrm>
            <a:custGeom>
              <a:avLst/>
              <a:gdLst/>
              <a:ahLst/>
              <a:rect l="l" t="t" r="r" b="b"/>
              <a:pathLst>
                <a:path w="184" h="261">
                  <a:moveTo>
                    <a:pt x="34" y="261"/>
                  </a:moveTo>
                  <a:cubicBezTo>
                    <a:pt x="17" y="194"/>
                    <a:pt x="0" y="127"/>
                    <a:pt x="25" y="84"/>
                  </a:cubicBezTo>
                  <a:cubicBezTo>
                    <a:pt x="50" y="41"/>
                    <a:pt x="117" y="20"/>
                    <a:pt x="18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5720" y="45957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934400" y="538200"/>
            <a:ext cx="480960" cy="459720"/>
            <a:chOff x="7934400" y="538200"/>
            <a:chExt cx="480960" cy="459720"/>
          </a:xfrm>
        </p:grpSpPr>
        <p:sp>
          <p:nvSpPr>
            <p:cNvPr id="914" name=""/>
            <p:cNvSpPr/>
            <p:nvPr/>
          </p:nvSpPr>
          <p:spPr>
            <a:xfrm>
              <a:off x="7934400" y="53820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223120" y="566640"/>
              <a:ext cx="192240" cy="266760"/>
            </a:xfrm>
            <a:custGeom>
              <a:avLst/>
              <a:gdLst/>
              <a:ahLst/>
              <a:rect l="l" t="t" r="r" b="b"/>
              <a:pathLst>
                <a:path w="121" h="168">
                  <a:moveTo>
                    <a:pt x="22" y="0"/>
                  </a:moveTo>
                  <a:cubicBezTo>
                    <a:pt x="22" y="18"/>
                    <a:pt x="0" y="83"/>
                    <a:pt x="16" y="111"/>
                  </a:cubicBezTo>
                  <a:cubicBezTo>
                    <a:pt x="32" y="139"/>
                    <a:pt x="78" y="154"/>
                    <a:pt x="121" y="16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01600" y="5962680"/>
            <a:ext cx="434880" cy="530280"/>
            <a:chOff x="201600" y="5962680"/>
            <a:chExt cx="434880" cy="530280"/>
          </a:xfrm>
        </p:grpSpPr>
        <p:sp>
          <p:nvSpPr>
            <p:cNvPr id="917" name=""/>
            <p:cNvSpPr/>
            <p:nvPr/>
          </p:nvSpPr>
          <p:spPr>
            <a:xfrm>
              <a:off x="336600" y="5962680"/>
              <a:ext cx="85680" cy="101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1600" y="6124680"/>
              <a:ext cx="4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3024360" y="5508720"/>
            <a:ext cx="434880" cy="519120"/>
            <a:chOff x="3024360" y="5508720"/>
            <a:chExt cx="434880" cy="519120"/>
          </a:xfrm>
        </p:grpSpPr>
        <p:sp>
          <p:nvSpPr>
            <p:cNvPr id="920" name=""/>
            <p:cNvSpPr/>
            <p:nvPr/>
          </p:nvSpPr>
          <p:spPr>
            <a:xfrm>
              <a:off x="3117960" y="5508720"/>
              <a:ext cx="85680" cy="101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24360" y="5659560"/>
              <a:ext cx="4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1717560" y="1322280"/>
            <a:ext cx="1185480" cy="1547640"/>
            <a:chOff x="1717560" y="1322280"/>
            <a:chExt cx="1185480" cy="1547640"/>
          </a:xfrm>
        </p:grpSpPr>
        <p:grpSp>
          <p:nvGrpSpPr>
            <p:cNvPr id="923" name=""/>
            <p:cNvGrpSpPr/>
            <p:nvPr/>
          </p:nvGrpSpPr>
          <p:grpSpPr>
            <a:xfrm>
              <a:off x="1949400" y="1619280"/>
              <a:ext cx="953640" cy="1250640"/>
              <a:chOff x="1949400" y="1619280"/>
              <a:chExt cx="953640" cy="125064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2004480" y="1619280"/>
                <a:ext cx="61200" cy="85320"/>
                <a:chOff x="2004480" y="1619280"/>
                <a:chExt cx="61200" cy="853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033280" y="1643400"/>
                  <a:ext cx="0" cy="612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013480" y="1619280"/>
                  <a:ext cx="52200" cy="3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649" y="1381"/>
                        <a:pt x="7697" y="5080"/>
                        <a:pt x="7697" y="10800"/>
                      </a:cubicBezTo>
                      <a:cubicBezTo>
                        <a:pt x="7697" y="16520"/>
                        <a:pt x="14649" y="2021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004480" y="1663560"/>
                  <a:ext cx="55080" cy="216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1951560" y="1693440"/>
                <a:ext cx="163080" cy="313200"/>
              </a:xfrm>
              <a:prstGeom prst="triangle">
                <a:avLst>
                  <a:gd name="adj" fmla="val 502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949400" y="2005200"/>
                <a:ext cx="163800" cy="864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0800000">
                <a:off x="2113920" y="2157840"/>
                <a:ext cx="789120" cy="479880"/>
              </a:xfrm>
              <a:prstGeom prst="blockArc">
                <a:avLst>
                  <a:gd name="adj1" fmla="val 0"/>
                  <a:gd name="adj2" fmla="val 10800000"/>
                  <a:gd name="adj3" fmla="val 4914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107800" y="2395800"/>
                <a:ext cx="789480" cy="469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2477880" y="2081520"/>
                <a:ext cx="61200" cy="85320"/>
                <a:chOff x="2477880" y="2081520"/>
                <a:chExt cx="61200" cy="853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2506680" y="2105640"/>
                  <a:ext cx="0" cy="612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486880" y="2081520"/>
                  <a:ext cx="52200" cy="3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649" y="1381"/>
                        <a:pt x="7697" y="5080"/>
                        <a:pt x="7697" y="10800"/>
                      </a:cubicBezTo>
                      <a:cubicBezTo>
                        <a:pt x="7697" y="16520"/>
                        <a:pt x="14649" y="2021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477880" y="2125800"/>
                  <a:ext cx="55080" cy="216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6" name=""/>
            <p:cNvSpPr/>
            <p:nvPr/>
          </p:nvSpPr>
          <p:spPr>
            <a:xfrm>
              <a:off x="1717560" y="1322280"/>
              <a:ext cx="43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021040" y="345600"/>
            <a:ext cx="0" cy="1155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8767800" y="115920"/>
            <a:ext cx="479520" cy="405720"/>
            <a:chOff x="8767800" y="115920"/>
            <a:chExt cx="479520" cy="405720"/>
          </a:xfrm>
        </p:grpSpPr>
        <p:sp>
          <p:nvSpPr>
            <p:cNvPr id="939" name=""/>
            <p:cNvSpPr/>
            <p:nvPr/>
          </p:nvSpPr>
          <p:spPr>
            <a:xfrm>
              <a:off x="8767800" y="393840"/>
              <a:ext cx="85680" cy="101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812080" y="115920"/>
              <a:ext cx="43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lang="en-GB" sz="1800" spc="-1" strike="noStrike" baseline="-25000">
                  <a:solidFill>
                    <a:srgbClr val="ffff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035080" y="709560"/>
            <a:ext cx="1035000" cy="820800"/>
            <a:chOff x="2035080" y="709560"/>
            <a:chExt cx="1035000" cy="820800"/>
          </a:xfrm>
        </p:grpSpPr>
        <p:sp>
          <p:nvSpPr>
            <p:cNvPr id="942" name=""/>
            <p:cNvSpPr/>
            <p:nvPr/>
          </p:nvSpPr>
          <p:spPr>
            <a:xfrm>
              <a:off x="2035080" y="952560"/>
              <a:ext cx="779400" cy="577800"/>
            </a:xfrm>
            <a:custGeom>
              <a:avLst/>
              <a:gdLst/>
              <a:ahLst/>
              <a:rect l="l" t="t" r="r" b="b"/>
              <a:pathLst>
                <a:path w="491" h="364">
                  <a:moveTo>
                    <a:pt x="0" y="0"/>
                  </a:moveTo>
                  <a:cubicBezTo>
                    <a:pt x="131" y="1"/>
                    <a:pt x="263" y="3"/>
                    <a:pt x="345" y="64"/>
                  </a:cubicBezTo>
                  <a:cubicBezTo>
                    <a:pt x="427" y="125"/>
                    <a:pt x="459" y="244"/>
                    <a:pt x="491" y="3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35200" y="709560"/>
              <a:ext cx="43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r>
                <a:rPr b="0" lang="en-GB" sz="2400" spc="-1" strike="noStrike" baseline="-25000">
                  <a:solidFill>
                    <a:srgbClr val="ffff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2149560" y="1587600"/>
            <a:ext cx="838080" cy="515160"/>
            <a:chOff x="2149560" y="1587600"/>
            <a:chExt cx="838080" cy="515160"/>
          </a:xfrm>
        </p:grpSpPr>
        <p:sp>
          <p:nvSpPr>
            <p:cNvPr id="945" name=""/>
            <p:cNvSpPr/>
            <p:nvPr/>
          </p:nvSpPr>
          <p:spPr>
            <a:xfrm>
              <a:off x="2428920" y="164304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49560" y="1587600"/>
              <a:ext cx="326880" cy="476280"/>
            </a:xfrm>
            <a:custGeom>
              <a:avLst/>
              <a:gdLst/>
              <a:ahLst/>
              <a:rect l="l" t="t" r="r" b="b"/>
              <a:pathLst>
                <a:path w="206" h="300">
                  <a:moveTo>
                    <a:pt x="0" y="300"/>
                  </a:moveTo>
                  <a:cubicBezTo>
                    <a:pt x="70" y="270"/>
                    <a:pt x="140" y="241"/>
                    <a:pt x="173" y="191"/>
                  </a:cubicBezTo>
                  <a:cubicBezTo>
                    <a:pt x="206" y="141"/>
                    <a:pt x="203" y="70"/>
                    <a:pt x="200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2021040" y="1006560"/>
            <a:ext cx="782640" cy="884160"/>
            <a:chOff x="2021040" y="1006560"/>
            <a:chExt cx="782640" cy="884160"/>
          </a:xfrm>
        </p:grpSpPr>
        <p:sp>
          <p:nvSpPr>
            <p:cNvPr id="948" name=""/>
            <p:cNvSpPr/>
            <p:nvPr/>
          </p:nvSpPr>
          <p:spPr>
            <a:xfrm>
              <a:off x="2224080" y="1006560"/>
              <a:ext cx="57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r>
                <a:rPr b="0" lang="en-GB" sz="2400" spc="-1" strike="noStrike" baseline="-25000">
                  <a:solidFill>
                    <a:srgbClr val="ffff00"/>
                  </a:solidFill>
                  <a:latin typeface="Times New Roman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1040" y="1371600"/>
              <a:ext cx="368280" cy="519120"/>
            </a:xfrm>
            <a:custGeom>
              <a:avLst/>
              <a:gdLst/>
              <a:ahLst/>
              <a:rect l="l" t="t" r="r" b="b"/>
              <a:pathLst>
                <a:path w="232" h="327">
                  <a:moveTo>
                    <a:pt x="0" y="0"/>
                  </a:moveTo>
                  <a:cubicBezTo>
                    <a:pt x="84" y="14"/>
                    <a:pt x="168" y="28"/>
                    <a:pt x="200" y="72"/>
                  </a:cubicBezTo>
                  <a:cubicBezTo>
                    <a:pt x="232" y="116"/>
                    <a:pt x="214" y="220"/>
                    <a:pt x="190" y="263"/>
                  </a:cubicBezTo>
                  <a:cubicBezTo>
                    <a:pt x="166" y="306"/>
                    <a:pt x="110" y="316"/>
                    <a:pt x="54" y="327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88800" y="5569560"/>
            <a:ext cx="2766600" cy="592920"/>
            <a:chOff x="388800" y="5569560"/>
            <a:chExt cx="2766600" cy="592920"/>
          </a:xfrm>
        </p:grpSpPr>
        <p:grpSp>
          <p:nvGrpSpPr>
            <p:cNvPr id="951" name=""/>
            <p:cNvGrpSpPr/>
            <p:nvPr/>
          </p:nvGrpSpPr>
          <p:grpSpPr>
            <a:xfrm>
              <a:off x="388800" y="5569560"/>
              <a:ext cx="2766600" cy="444600"/>
              <a:chOff x="388800" y="5569560"/>
              <a:chExt cx="2766600" cy="44460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392400" y="5569560"/>
                <a:ext cx="2763000" cy="44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388800" y="5831640"/>
                <a:ext cx="1134000" cy="182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1654200" y="5794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042280" y="1683720"/>
            <a:ext cx="1123920" cy="3866760"/>
            <a:chOff x="2042280" y="1683720"/>
            <a:chExt cx="1123920" cy="3866760"/>
          </a:xfrm>
        </p:grpSpPr>
        <p:grpSp>
          <p:nvGrpSpPr>
            <p:cNvPr id="956" name=""/>
            <p:cNvGrpSpPr/>
            <p:nvPr/>
          </p:nvGrpSpPr>
          <p:grpSpPr>
            <a:xfrm>
              <a:off x="2042280" y="1683720"/>
              <a:ext cx="1123920" cy="3866760"/>
              <a:chOff x="2042280" y="1683720"/>
              <a:chExt cx="1123920" cy="3866760"/>
            </a:xfrm>
          </p:grpSpPr>
          <p:sp>
            <p:nvSpPr>
              <p:cNvPr id="957" name=""/>
              <p:cNvSpPr/>
              <p:nvPr/>
            </p:nvSpPr>
            <p:spPr>
              <a:xfrm flipH="1" flipV="1">
                <a:off x="2042280" y="1683720"/>
                <a:ext cx="1121400" cy="385632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flipV="1">
                <a:off x="2706480" y="3969000"/>
                <a:ext cx="459720" cy="15814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2427120" y="37530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014640" y="5099040"/>
            <a:ext cx="361800" cy="694440"/>
            <a:chOff x="3014640" y="5099040"/>
            <a:chExt cx="361800" cy="694440"/>
          </a:xfrm>
        </p:grpSpPr>
        <p:sp>
          <p:nvSpPr>
            <p:cNvPr id="961" name=""/>
            <p:cNvSpPr/>
            <p:nvPr/>
          </p:nvSpPr>
          <p:spPr>
            <a:xfrm>
              <a:off x="3052440" y="521316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149280" y="509904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3014640" y="5308200"/>
              <a:ext cx="361800" cy="485280"/>
              <a:chOff x="3014640" y="5308200"/>
              <a:chExt cx="361800" cy="485280"/>
            </a:xfrm>
          </p:grpSpPr>
          <p:sp>
            <p:nvSpPr>
              <p:cNvPr id="964" name=""/>
              <p:cNvSpPr/>
              <p:nvPr/>
            </p:nvSpPr>
            <p:spPr>
              <a:xfrm flipH="1">
                <a:off x="3014640" y="530820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05080" y="531828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3157200" y="530820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7" name=""/>
          <p:cNvGrpSpPr/>
          <p:nvPr/>
        </p:nvGrpSpPr>
        <p:grpSpPr>
          <a:xfrm>
            <a:off x="2072880" y="474480"/>
            <a:ext cx="6667200" cy="1202760"/>
            <a:chOff x="2072880" y="474480"/>
            <a:chExt cx="6667200" cy="1202760"/>
          </a:xfrm>
        </p:grpSpPr>
        <p:grpSp>
          <p:nvGrpSpPr>
            <p:cNvPr id="968" name=""/>
            <p:cNvGrpSpPr/>
            <p:nvPr/>
          </p:nvGrpSpPr>
          <p:grpSpPr>
            <a:xfrm>
              <a:off x="2072880" y="474480"/>
              <a:ext cx="6667200" cy="1202760"/>
              <a:chOff x="2072880" y="474480"/>
              <a:chExt cx="6667200" cy="1202760"/>
            </a:xfrm>
          </p:grpSpPr>
          <p:sp>
            <p:nvSpPr>
              <p:cNvPr id="969" name=""/>
              <p:cNvSpPr/>
              <p:nvPr/>
            </p:nvSpPr>
            <p:spPr>
              <a:xfrm flipV="1">
                <a:off x="2082960" y="474480"/>
                <a:ext cx="6657120" cy="120096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2072880" y="1183680"/>
                <a:ext cx="2733120" cy="493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4989960" y="7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87720" y="5571720"/>
            <a:ext cx="2725200" cy="437040"/>
            <a:chOff x="387720" y="5571720"/>
            <a:chExt cx="2725200" cy="437040"/>
          </a:xfrm>
        </p:grpSpPr>
        <p:sp>
          <p:nvSpPr>
            <p:cNvPr id="973" name=""/>
            <p:cNvSpPr/>
            <p:nvPr/>
          </p:nvSpPr>
          <p:spPr>
            <a:xfrm flipV="1">
              <a:off x="394920" y="5571720"/>
              <a:ext cx="2718000" cy="4348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387720" y="5830560"/>
              <a:ext cx="1114920" cy="178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1018440" y="13082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E,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09520" y="5533920"/>
            <a:ext cx="361800" cy="695160"/>
            <a:chOff x="209520" y="5533920"/>
            <a:chExt cx="361800" cy="695160"/>
          </a:xfrm>
        </p:grpSpPr>
        <p:sp>
          <p:nvSpPr>
            <p:cNvPr id="977" name=""/>
            <p:cNvSpPr/>
            <p:nvPr/>
          </p:nvSpPr>
          <p:spPr>
            <a:xfrm>
              <a:off x="247680" y="5648400"/>
              <a:ext cx="26676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4520" y="553392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209520" y="5743440"/>
              <a:ext cx="361800" cy="485640"/>
              <a:chOff x="209520" y="5743440"/>
              <a:chExt cx="361800" cy="485640"/>
            </a:xfrm>
          </p:grpSpPr>
          <p:sp>
            <p:nvSpPr>
              <p:cNvPr id="980" name=""/>
              <p:cNvSpPr/>
              <p:nvPr/>
            </p:nvSpPr>
            <p:spPr>
              <a:xfrm flipH="1">
                <a:off x="209520" y="574344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99960" y="5753520"/>
                <a:ext cx="171360" cy="3171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352080" y="5743440"/>
                <a:ext cx="28800" cy="485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" name=""/>
          <p:cNvGrpSpPr/>
          <p:nvPr/>
        </p:nvGrpSpPr>
        <p:grpSpPr>
          <a:xfrm>
            <a:off x="5675400" y="3135240"/>
            <a:ext cx="3468600" cy="3722760"/>
            <a:chOff x="5675400" y="3135240"/>
            <a:chExt cx="3468600" cy="3722760"/>
          </a:xfrm>
        </p:grpSpPr>
        <p:sp>
          <p:nvSpPr>
            <p:cNvPr id="984" name=""/>
            <p:cNvSpPr/>
            <p:nvPr/>
          </p:nvSpPr>
          <p:spPr>
            <a:xfrm>
              <a:off x="5675400" y="3135240"/>
              <a:ext cx="3468600" cy="3722760"/>
            </a:xfrm>
            <a:custGeom>
              <a:avLst/>
              <a:gdLst>
                <a:gd name="textAreaLeft" fmla="*/ 169200 w 3468600"/>
                <a:gd name="textAreaRight" fmla="*/ 3299400 w 3468600"/>
                <a:gd name="textAreaTop" fmla="*/ 169200 h 3722760"/>
                <a:gd name="textAreaBottom" fmla="*/ 3553560 h 3722760"/>
              </a:gdLst>
              <a:ahLst/>
              <a:rect l="textAreaLeft" t="textAreaTop" r="textAreaRight" b="textAreaBottom"/>
              <a:pathLst>
                <a:path w="21600" h="23183">
                  <a:moveTo>
                    <a:pt x="3600" y="0"/>
                  </a:moveTo>
                  <a:arcTo wR="3600" hR="3600" stAng="16200000" swAng="-5400000"/>
                  <a:lnTo>
                    <a:pt x="0" y="19583"/>
                  </a:lnTo>
                  <a:arcTo wR="3600" hR="3600" stAng="10800000" swAng="-5400000"/>
                  <a:lnTo>
                    <a:pt x="18000" y="231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5" name=""/>
                <p:cNvSpPr txBox="1"/>
                <p:nvPr/>
              </p:nvSpPr>
              <p:spPr>
                <a:xfrm>
                  <a:off x="6708600" y="3209760"/>
                  <a:ext cx="168624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γ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(</m:t>
                          </m:r>
                          <m:r>
                            <m:t xml:space="preserve">β</m:t>
                          </m:r>
                          <m:r>
                            <m:t xml:space="preserve">+</m:t>
                          </m:r>
                          <m:r>
                            <m:t xml:space="preserve">γ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6" name=""/>
                <p:cNvSpPr txBox="1"/>
                <p:nvPr/>
              </p:nvSpPr>
              <p:spPr>
                <a:xfrm>
                  <a:off x="6824520" y="3970440"/>
                  <a:ext cx="153540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7" name=""/>
                <p:cNvSpPr txBox="1"/>
                <p:nvPr/>
              </p:nvSpPr>
              <p:spPr>
                <a:xfrm>
                  <a:off x="6651720" y="4707000"/>
                  <a:ext cx="18414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δ</m:t>
                      </m:r>
                      <m:r>
                        <m:t xml:space="preserve">+</m:t>
                      </m:r>
                      <m:r>
                        <m:t xml:space="preserve">τ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8" name=""/>
                <p:cNvSpPr txBox="1"/>
                <p:nvPr/>
              </p:nvSpPr>
              <p:spPr>
                <a:xfrm>
                  <a:off x="6838920" y="5122800"/>
                  <a:ext cx="14652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9" name=""/>
                <p:cNvSpPr txBox="1"/>
                <p:nvPr/>
              </p:nvSpPr>
              <p:spPr>
                <a:xfrm>
                  <a:off x="6500880" y="5778360"/>
                  <a:ext cx="220176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e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B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e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90" name=""/>
            <p:cNvSpPr/>
            <p:nvPr/>
          </p:nvSpPr>
          <p:spPr>
            <a:xfrm>
              <a:off x="5675400" y="5675400"/>
              <a:ext cx="34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8184240" y="903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E,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28640" y="1854360"/>
            <a:ext cx="77724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se Trave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1523880" y="3429000"/>
            <a:ext cx="1209960" cy="1504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2743200" y="3047760"/>
            <a:ext cx="990720" cy="1904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428840" y="333360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1523880" y="3048120"/>
            <a:ext cx="2133720" cy="380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743200" y="4123800"/>
            <a:ext cx="1895400" cy="800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3733920" y="3047760"/>
            <a:ext cx="914400" cy="10666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2000" y="403848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657600" y="29718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98560" y="239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recise Trave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943600" y="243828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943600" y="32767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3733920" y="2514600"/>
            <a:ext cx="2286000" cy="533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648320" y="3352320"/>
            <a:ext cx="1371600" cy="762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733920" y="3048120"/>
            <a:ext cx="2286000" cy="3045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2514600"/>
            <a:ext cx="0" cy="8380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85840" y="3591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52560" y="350532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95640" y="373392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714840" y="384804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52960" y="4019400"/>
            <a:ext cx="95040" cy="86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086280" y="446724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857680" y="410544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314880" y="3438360"/>
            <a:ext cx="95040" cy="86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86040" y="334332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562040" y="3448080"/>
            <a:ext cx="3076560" cy="657360"/>
          </a:xfrm>
          <a:custGeom>
            <a:avLst/>
            <a:gdLst/>
            <a:ahLst/>
            <a:rect l="l" t="t" r="r" b="b"/>
            <a:pathLst>
              <a:path w="1938" h="414">
                <a:moveTo>
                  <a:pt x="0" y="0"/>
                </a:moveTo>
                <a:lnTo>
                  <a:pt x="366" y="126"/>
                </a:lnTo>
                <a:lnTo>
                  <a:pt x="786" y="72"/>
                </a:lnTo>
                <a:lnTo>
                  <a:pt x="996" y="222"/>
                </a:lnTo>
                <a:lnTo>
                  <a:pt x="1392" y="288"/>
                </a:lnTo>
                <a:lnTo>
                  <a:pt x="1662" y="402"/>
                </a:lnTo>
                <a:lnTo>
                  <a:pt x="1938" y="414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52560" y="3038400"/>
            <a:ext cx="1009800" cy="1886040"/>
          </a:xfrm>
          <a:custGeom>
            <a:avLst/>
            <a:gdLst/>
            <a:ahLst/>
            <a:rect l="l" t="t" r="r" b="b"/>
            <a:pathLst>
              <a:path w="636" h="1188">
                <a:moveTo>
                  <a:pt x="0" y="1188"/>
                </a:moveTo>
                <a:lnTo>
                  <a:pt x="246" y="924"/>
                </a:lnTo>
                <a:lnTo>
                  <a:pt x="96" y="708"/>
                </a:lnTo>
                <a:lnTo>
                  <a:pt x="252" y="462"/>
                </a:lnTo>
                <a:lnTo>
                  <a:pt x="390" y="276"/>
                </a:lnTo>
                <a:lnTo>
                  <a:pt x="636" y="222"/>
                </a:lnTo>
                <a:lnTo>
                  <a:pt x="606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257720" y="300996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419720" y="331488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76920" y="3333600"/>
            <a:ext cx="95040" cy="86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19680" y="3686040"/>
            <a:ext cx="95400" cy="86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362560" y="328608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324400" y="2933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753160" y="2828880"/>
            <a:ext cx="9504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34080" y="313380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19680" y="2867040"/>
            <a:ext cx="95400" cy="85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714840" y="3029040"/>
            <a:ext cx="2295360" cy="352440"/>
          </a:xfrm>
          <a:custGeom>
            <a:avLst/>
            <a:gdLst/>
            <a:ahLst/>
            <a:rect l="l" t="t" r="r" b="b"/>
            <a:pathLst>
              <a:path w="1446" h="222">
                <a:moveTo>
                  <a:pt x="0" y="0"/>
                </a:moveTo>
                <a:lnTo>
                  <a:pt x="372" y="24"/>
                </a:lnTo>
                <a:lnTo>
                  <a:pt x="480" y="222"/>
                </a:lnTo>
                <a:lnTo>
                  <a:pt x="762" y="222"/>
                </a:lnTo>
                <a:lnTo>
                  <a:pt x="1068" y="198"/>
                </a:lnTo>
                <a:lnTo>
                  <a:pt x="1314" y="102"/>
                </a:lnTo>
                <a:lnTo>
                  <a:pt x="1446" y="198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638600" y="2495520"/>
            <a:ext cx="1371600" cy="1609920"/>
          </a:xfrm>
          <a:custGeom>
            <a:avLst/>
            <a:gdLst/>
            <a:ahLst/>
            <a:rect l="l" t="t" r="r" b="b"/>
            <a:pathLst>
              <a:path w="864" h="1014">
                <a:moveTo>
                  <a:pt x="0" y="1014"/>
                </a:moveTo>
                <a:lnTo>
                  <a:pt x="150" y="774"/>
                </a:lnTo>
                <a:lnTo>
                  <a:pt x="180" y="552"/>
                </a:lnTo>
                <a:lnTo>
                  <a:pt x="144" y="264"/>
                </a:lnTo>
                <a:lnTo>
                  <a:pt x="468" y="312"/>
                </a:lnTo>
                <a:lnTo>
                  <a:pt x="744" y="246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28640" y="1854360"/>
            <a:ext cx="77724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Contro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tical Control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kish National Vertical Contro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D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Vertic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Vert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 Datum of a Network is Determined as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a National Vertical Network (up to 5 k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a benchmark of a Governmental Organisation whose responsible to set such bench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a Control Station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National Horizontal Network whose height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staff is set into the sea at seacoast and at least two readings is made (morning&amp;evening) and average is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height of a nearest Railway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to a stable object whose height is Read from a Largest Scale Map available for the area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15520" y="4979520"/>
            <a:ext cx="8628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nice week to you al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2978280" y="18414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8640" y="11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6120" y="2905200"/>
            <a:ext cx="77724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43320" y="47530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74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79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85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486080" y="1058760"/>
            <a:ext cx="3824280" cy="1579680"/>
          </a:xfrm>
          <a:prstGeom prst="line">
            <a:avLst/>
          </a:prstGeom>
          <a:ln w="190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785600">
            <a:off x="1704960" y="251460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1357000">
            <a:off x="1720800" y="2352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43120" y="10746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97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100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 flipV="1">
            <a:off x="1544760" y="2136240"/>
            <a:ext cx="1154160" cy="476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43320" y="47530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117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120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125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131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86080" y="942840"/>
            <a:ext cx="3838320" cy="1695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8355000">
            <a:off x="5181120" y="97164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785600">
            <a:off x="1704960" y="251460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1357000">
            <a:off x="1720800" y="2352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357000">
            <a:off x="4929840" y="1116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43120" y="10746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145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152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3320" y="47530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167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170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175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181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86080" y="942840"/>
            <a:ext cx="3838320" cy="1695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8355000">
            <a:off x="5181120" y="97164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785600">
            <a:off x="1704960" y="251460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5346200">
            <a:off x="5542920" y="453348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1357000">
            <a:off x="1720800" y="2352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1357000">
            <a:off x="4929840" y="1116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1357000">
            <a:off x="5316840" y="4201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43120" y="10746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197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204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48240" y="213372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24400" y="106668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43320" y="4753080"/>
            <a:ext cx="0" cy="114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473480" y="2639160"/>
            <a:ext cx="4250880" cy="2228040"/>
            <a:chOff x="1473480" y="2639160"/>
            <a:chExt cx="4250880" cy="2228040"/>
          </a:xfrm>
        </p:grpSpPr>
        <p:sp>
          <p:nvSpPr>
            <p:cNvPr id="219" name=""/>
            <p:cNvSpPr/>
            <p:nvPr/>
          </p:nvSpPr>
          <p:spPr>
            <a:xfrm>
              <a:off x="1479600" y="2644920"/>
              <a:ext cx="4244760" cy="222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73480" y="2639160"/>
              <a:ext cx="1742760" cy="911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330880" y="951840"/>
            <a:ext cx="412920" cy="3934440"/>
            <a:chOff x="5330880" y="951840"/>
            <a:chExt cx="412920" cy="3934440"/>
          </a:xfrm>
        </p:grpSpPr>
        <p:sp>
          <p:nvSpPr>
            <p:cNvPr id="222" name=""/>
            <p:cNvSpPr/>
            <p:nvPr/>
          </p:nvSpPr>
          <p:spPr>
            <a:xfrm>
              <a:off x="5331600" y="962280"/>
              <a:ext cx="412200" cy="3924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0880" y="951840"/>
              <a:ext cx="169200" cy="1609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143208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38680" y="4829040"/>
            <a:ext cx="390600" cy="362160"/>
            <a:chOff x="5638680" y="4829040"/>
            <a:chExt cx="390600" cy="362160"/>
          </a:xfrm>
        </p:grpSpPr>
        <p:sp>
          <p:nvSpPr>
            <p:cNvPr id="227" name=""/>
            <p:cNvSpPr/>
            <p:nvPr/>
          </p:nvSpPr>
          <p:spPr>
            <a:xfrm>
              <a:off x="5905440" y="507672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43440" y="4829040"/>
              <a:ext cx="28584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848200" y="4895640"/>
              <a:ext cx="66960" cy="161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877000" y="4933440"/>
              <a:ext cx="104760" cy="478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5800320" y="4991040"/>
              <a:ext cx="104760" cy="288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638680" y="4829040"/>
              <a:ext cx="218880" cy="181080"/>
              <a:chOff x="5638680" y="4829040"/>
              <a:chExt cx="218880" cy="181080"/>
            </a:xfrm>
          </p:grpSpPr>
          <p:sp>
            <p:nvSpPr>
              <p:cNvPr id="233" name=""/>
              <p:cNvSpPr/>
              <p:nvPr/>
            </p:nvSpPr>
            <p:spPr>
              <a:xfrm>
                <a:off x="5734080" y="4832640"/>
                <a:ext cx="0" cy="177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654880" y="4847400"/>
                <a:ext cx="163080" cy="47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8680" y="4829040"/>
                <a:ext cx="185400" cy="738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8320" y="5006520"/>
                <a:ext cx="12924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5700600" y="51372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486080" y="942840"/>
            <a:ext cx="3838320" cy="1695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8355000">
            <a:off x="5181120" y="97164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785600">
            <a:off x="1704960" y="251460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5346200">
            <a:off x="5542920" y="4533480"/>
            <a:ext cx="95400" cy="257040"/>
          </a:xfrm>
          <a:custGeom>
            <a:avLst/>
            <a:gdLst/>
            <a:ahLst/>
            <a:rect l="l" t="t" r="r" b="b"/>
            <a:pathLst>
              <a:path w="60" h="162">
                <a:moveTo>
                  <a:pt x="0" y="0"/>
                </a:moveTo>
                <a:cubicBezTo>
                  <a:pt x="8" y="11"/>
                  <a:pt x="38" y="39"/>
                  <a:pt x="48" y="66"/>
                </a:cubicBezTo>
                <a:cubicBezTo>
                  <a:pt x="58" y="93"/>
                  <a:pt x="58" y="142"/>
                  <a:pt x="60" y="1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357000">
            <a:off x="1720800" y="2352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1357000">
            <a:off x="4929840" y="1116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21357000">
            <a:off x="5316840" y="4201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67000" y="158112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7800" y="2284560"/>
            <a:ext cx="447840" cy="563400"/>
          </a:xfrm>
          <a:custGeom>
            <a:avLst/>
            <a:gdLst/>
            <a:ahLst/>
            <a:rect l="l" t="t" r="r" b="b"/>
            <a:pathLst>
              <a:path w="282" h="355">
                <a:moveTo>
                  <a:pt x="0" y="27"/>
                </a:moveTo>
                <a:cubicBezTo>
                  <a:pt x="14" y="23"/>
                  <a:pt x="53" y="2"/>
                  <a:pt x="83" y="1"/>
                </a:cubicBezTo>
                <a:cubicBezTo>
                  <a:pt x="113" y="0"/>
                  <a:pt x="151" y="8"/>
                  <a:pt x="179" y="19"/>
                </a:cubicBezTo>
                <a:cubicBezTo>
                  <a:pt x="207" y="30"/>
                  <a:pt x="234" y="42"/>
                  <a:pt x="251" y="67"/>
                </a:cubicBezTo>
                <a:cubicBezTo>
                  <a:pt x="268" y="92"/>
                  <a:pt x="280" y="121"/>
                  <a:pt x="281" y="169"/>
                </a:cubicBezTo>
                <a:cubicBezTo>
                  <a:pt x="282" y="217"/>
                  <a:pt x="262" y="316"/>
                  <a:pt x="257" y="355"/>
                </a:cubicBezTo>
              </a:path>
            </a:pathLst>
          </a:custGeom>
          <a:noFill/>
          <a:ln w="1908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5040" y="639720"/>
            <a:ext cx="347400" cy="493920"/>
          </a:xfrm>
          <a:custGeom>
            <a:avLst/>
            <a:gdLst/>
            <a:ahLst/>
            <a:rect l="l" t="t" r="r" b="b"/>
            <a:pathLst>
              <a:path w="219" h="311">
                <a:moveTo>
                  <a:pt x="0" y="17"/>
                </a:moveTo>
                <a:cubicBezTo>
                  <a:pt x="14" y="15"/>
                  <a:pt x="53" y="0"/>
                  <a:pt x="84" y="5"/>
                </a:cubicBezTo>
                <a:cubicBezTo>
                  <a:pt x="115" y="10"/>
                  <a:pt x="164" y="25"/>
                  <a:pt x="186" y="47"/>
                </a:cubicBezTo>
                <a:cubicBezTo>
                  <a:pt x="208" y="69"/>
                  <a:pt x="219" y="105"/>
                  <a:pt x="216" y="137"/>
                </a:cubicBezTo>
                <a:cubicBezTo>
                  <a:pt x="213" y="169"/>
                  <a:pt x="197" y="210"/>
                  <a:pt x="168" y="239"/>
                </a:cubicBezTo>
                <a:cubicBezTo>
                  <a:pt x="139" y="268"/>
                  <a:pt x="68" y="296"/>
                  <a:pt x="42" y="311"/>
                </a:cubicBezTo>
              </a:path>
            </a:pathLst>
          </a:custGeom>
          <a:noFill/>
          <a:ln w="1908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315040" y="18108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21594000">
            <a:off x="1564560" y="175536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21594000">
            <a:off x="5650560" y="4219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cc99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300816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43120" y="1074600"/>
            <a:ext cx="4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6920" y="5037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309680" y="2529000"/>
            <a:ext cx="361800" cy="694440"/>
            <a:chOff x="1309680" y="2529000"/>
            <a:chExt cx="361800" cy="694440"/>
          </a:xfrm>
        </p:grpSpPr>
        <p:sp>
          <p:nvSpPr>
            <p:cNvPr id="255" name=""/>
            <p:cNvSpPr/>
            <p:nvPr/>
          </p:nvSpPr>
          <p:spPr>
            <a:xfrm>
              <a:off x="1347480" y="26431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4320" y="2529000"/>
              <a:ext cx="74160" cy="209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309680" y="2738160"/>
              <a:ext cx="361800" cy="485280"/>
              <a:chOff x="1309680" y="2738160"/>
              <a:chExt cx="361800" cy="48528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1309680" y="2738160"/>
                <a:ext cx="171360" cy="3664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00120" y="2748240"/>
                <a:ext cx="171360" cy="316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452240" y="2738160"/>
                <a:ext cx="28800" cy="485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5176800" y="833400"/>
            <a:ext cx="266400" cy="209520"/>
            <a:chOff x="5176800" y="833400"/>
            <a:chExt cx="266400" cy="209520"/>
          </a:xfrm>
        </p:grpSpPr>
        <p:sp>
          <p:nvSpPr>
            <p:cNvPr id="262" name=""/>
            <p:cNvSpPr/>
            <p:nvPr/>
          </p:nvSpPr>
          <p:spPr>
            <a:xfrm>
              <a:off x="5176800" y="947520"/>
              <a:ext cx="2664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73640" y="833400"/>
              <a:ext cx="7452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 rot="21594000">
            <a:off x="3126960" y="3601800"/>
            <a:ext cx="51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21594000">
            <a:off x="4969440" y="2341080"/>
            <a:ext cx="50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1594000">
            <a:off x="3004920" y="1402920"/>
            <a:ext cx="52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06:08:11Z</dcterms:created>
  <dc:creator>Rahmi Nurhan CELIK</dc:creator>
  <dc:description/>
  <dc:language>en-US</dc:language>
  <cp:lastModifiedBy>bim</cp:lastModifiedBy>
  <dcterms:modified xsi:type="dcterms:W3CDTF">2007-03-26T04:46:59Z</dcterms:modified>
  <cp:revision>36</cp:revision>
  <dc:subject/>
  <dc:title>No Slide Title</dc:title>
</cp:coreProperties>
</file>