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WHOOSH.WAV" ContentType="audio/x-wav"/>
  <Override PartName="/ppt/media/image4.wmf" ContentType="image/x-wm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742-21BB-4355-8363-FDD8144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831-6338-4499-8ECB-38F9C89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24B-40C9-428E-A4EE-CA048E01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A69-08EE-4837-958E-F77D3A1B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85D-3683-4A3A-8477-F972FBC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F47-E4F4-47E6-AF84-0B346C2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BEC-83E2-407F-A2B5-C70A0B6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745-29C6-4292-A61B-7FB8201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CAF-191A-44A1-934C-1BD4423A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693-3075-4BF5-9910-EC11CBC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2EC-AC5D-439E-BCA2-0118BD6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73B-3E42-4528-83CD-DCAB3B0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87C8-906E-4AF5-91F5-7CFE3043D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1520" y="6553080"/>
            <a:ext cx="78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99ff"/>
                </a:solidFill>
                <a:latin typeface="Times New Roman"/>
              </a:rPr>
              <a:t>Doç. Dr. Rahmi Nurhan ÇELİK, ITU Department of Geodesy, Lecture Notes for Geodetic Network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760" y="468360"/>
            <a:ext cx="89582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GEODETIC NETWORK</a:t>
            </a:r>
            <a:br>
              <a:rPr sz="4400"/>
            </a:br>
            <a:r>
              <a:rPr b="1" lang="en-AU" sz="4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552400"/>
            <a:ext cx="91440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 Dr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-mail: celikn@itu.edu.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celikrn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http://www.geoit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152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159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187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193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33880" y="3809880"/>
            <a:ext cx="352440" cy="238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206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228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060800" y="383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33880" y="3809880"/>
            <a:ext cx="352440" cy="238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242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05440" y="3581280"/>
            <a:ext cx="380880" cy="209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265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075200" y="383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33880" y="3809880"/>
            <a:ext cx="352440" cy="238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05440" y="3581280"/>
            <a:ext cx="380880" cy="209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296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309920" y="3440160"/>
            <a:ext cx="29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303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060800" y="386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95880" y="3548160"/>
            <a:ext cx="47520" cy="128520"/>
          </a:xfrm>
          <a:custGeom>
            <a:avLst/>
            <a:gdLst/>
            <a:ahLst/>
            <a:rect l="l" t="t" r="r" b="b"/>
            <a:pathLst>
              <a:path w="30" h="81">
                <a:moveTo>
                  <a:pt x="0" y="0"/>
                </a:moveTo>
                <a:cubicBezTo>
                  <a:pt x="4" y="4"/>
                  <a:pt x="22" y="12"/>
                  <a:pt x="26" y="21"/>
                </a:cubicBezTo>
                <a:cubicBezTo>
                  <a:pt x="30" y="30"/>
                  <a:pt x="30" y="43"/>
                  <a:pt x="26" y="53"/>
                </a:cubicBezTo>
                <a:cubicBezTo>
                  <a:pt x="22" y="63"/>
                  <a:pt x="7" y="76"/>
                  <a:pt x="2" y="81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1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33880" y="3809880"/>
            <a:ext cx="352440" cy="238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05440" y="3581280"/>
            <a:ext cx="380880" cy="209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162320" y="300960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336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076640" y="38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5880" y="3548160"/>
            <a:ext cx="47520" cy="128520"/>
          </a:xfrm>
          <a:custGeom>
            <a:avLst/>
            <a:gdLst/>
            <a:ahLst/>
            <a:rect l="l" t="t" r="r" b="b"/>
            <a:pathLst>
              <a:path w="30" h="81">
                <a:moveTo>
                  <a:pt x="0" y="0"/>
                </a:moveTo>
                <a:cubicBezTo>
                  <a:pt x="4" y="4"/>
                  <a:pt x="22" y="12"/>
                  <a:pt x="26" y="21"/>
                </a:cubicBezTo>
                <a:cubicBezTo>
                  <a:pt x="30" y="30"/>
                  <a:pt x="30" y="43"/>
                  <a:pt x="26" y="53"/>
                </a:cubicBezTo>
                <a:cubicBezTo>
                  <a:pt x="22" y="63"/>
                  <a:pt x="7" y="76"/>
                  <a:pt x="2" y="81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09920" y="3425760"/>
            <a:ext cx="29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345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105440" y="3276720"/>
            <a:ext cx="2066760" cy="295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33880" y="3809880"/>
            <a:ext cx="352440" cy="238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05440" y="3581280"/>
            <a:ext cx="380880" cy="209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162320" y="300960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3160" y="3295800"/>
            <a:ext cx="333360" cy="88920"/>
          </a:xfrm>
          <a:custGeom>
            <a:avLst/>
            <a:gdLst/>
            <a:ahLst/>
            <a:rect l="l" t="t" r="r" b="b"/>
            <a:pathLst>
              <a:path w="210" h="56">
                <a:moveTo>
                  <a:pt x="210" y="0"/>
                </a:moveTo>
                <a:lnTo>
                  <a:pt x="0" y="32"/>
                </a:lnTo>
                <a:lnTo>
                  <a:pt x="8" y="56"/>
                </a:lnTo>
                <a:lnTo>
                  <a:pt x="21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65560" y="3448080"/>
            <a:ext cx="330120" cy="95400"/>
          </a:xfrm>
          <a:custGeom>
            <a:avLst/>
            <a:gdLst/>
            <a:ahLst/>
            <a:rect l="l" t="t" r="r" b="b"/>
            <a:pathLst>
              <a:path w="208" h="60">
                <a:moveTo>
                  <a:pt x="208" y="32"/>
                </a:moveTo>
                <a:lnTo>
                  <a:pt x="200" y="0"/>
                </a:lnTo>
                <a:lnTo>
                  <a:pt x="0" y="60"/>
                </a:lnTo>
                <a:lnTo>
                  <a:pt x="208" y="3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378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4458960" y="320040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25640" y="313704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75200" y="383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09920" y="3411360"/>
            <a:ext cx="29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388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173560" y="3475080"/>
            <a:ext cx="3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95880" y="3548160"/>
            <a:ext cx="47520" cy="128520"/>
          </a:xfrm>
          <a:custGeom>
            <a:avLst/>
            <a:gdLst/>
            <a:ahLst/>
            <a:rect l="l" t="t" r="r" b="b"/>
            <a:pathLst>
              <a:path w="30" h="81">
                <a:moveTo>
                  <a:pt x="0" y="0"/>
                </a:moveTo>
                <a:cubicBezTo>
                  <a:pt x="4" y="4"/>
                  <a:pt x="22" y="12"/>
                  <a:pt x="26" y="21"/>
                </a:cubicBezTo>
                <a:cubicBezTo>
                  <a:pt x="30" y="30"/>
                  <a:pt x="30" y="43"/>
                  <a:pt x="26" y="53"/>
                </a:cubicBezTo>
                <a:cubicBezTo>
                  <a:pt x="22" y="63"/>
                  <a:pt x="7" y="76"/>
                  <a:pt x="2" y="81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69760" y="4041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1520" y="37195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5760" y="231840"/>
            <a:ext cx="82486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ation Out of Centre  at Control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093760" y="963720"/>
                <a:ext cx="491508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038320" y="3743280"/>
                <a:ext cx="49957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≃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ρ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771480" y="5442120"/>
            <a:ext cx="7772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, r’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known and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ob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 is precisely measured, r’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measured and then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obtained for each direction. S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btained from coordinate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65000" y="2352600"/>
            <a:ext cx="7561440" cy="356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49160" y="2363760"/>
          <a:ext cx="7604280" cy="35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363760"/>
                    <a:ext cx="760428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531720" y="1068480"/>
            <a:ext cx="82486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ation Out of Centre  at Control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05380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servation Out of Centre at Target Control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at is the Mission of Geodes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ntro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Geodetic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orizont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ertic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urkish Nationa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lassification of Geodet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ational Geodeti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connaissance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ogress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umbering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tation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tation Description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ffects on Geodetic Network Desig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6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05440" y="3295440"/>
            <a:ext cx="1962000" cy="2761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24160" y="2990880"/>
            <a:ext cx="197172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48000" y="3019320"/>
            <a:ext cx="28440" cy="28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91120" y="32385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425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815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4880" y="3817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44680" y="32986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3900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05600" y="294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120" y="334980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105440" y="3295440"/>
            <a:ext cx="1962000" cy="2761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124160" y="2990880"/>
            <a:ext cx="197172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048000" y="3019320"/>
            <a:ext cx="28440" cy="28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91120" y="32385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340524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339" y="48"/>
                </a:moveTo>
                <a:lnTo>
                  <a:pt x="0" y="93"/>
                </a:lnTo>
                <a:lnTo>
                  <a:pt x="321" y="0"/>
                </a:lnTo>
                <a:lnTo>
                  <a:pt x="339" y="4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7760" y="317484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456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03900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15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4880" y="3817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4680" y="32986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05600" y="294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120" y="334980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105440" y="3295440"/>
            <a:ext cx="1962000" cy="2761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124160" y="2990880"/>
            <a:ext cx="197172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048000" y="3019320"/>
            <a:ext cx="28440" cy="28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91120" y="32385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340524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339" y="48"/>
                </a:moveTo>
                <a:lnTo>
                  <a:pt x="0" y="93"/>
                </a:lnTo>
                <a:lnTo>
                  <a:pt x="321" y="0"/>
                </a:lnTo>
                <a:lnTo>
                  <a:pt x="339" y="4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486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915160" y="3019320"/>
            <a:ext cx="137880" cy="95400"/>
          </a:xfrm>
          <a:custGeom>
            <a:avLst/>
            <a:gdLst/>
            <a:ahLst/>
            <a:rect l="l" t="t" r="r" b="b"/>
            <a:pathLst>
              <a:path w="87" h="60">
                <a:moveTo>
                  <a:pt x="87" y="0"/>
                </a:moveTo>
                <a:lnTo>
                  <a:pt x="0" y="24"/>
                </a:lnTo>
                <a:lnTo>
                  <a:pt x="36" y="48"/>
                </a:lnTo>
                <a:lnTo>
                  <a:pt x="84" y="60"/>
                </a:lnTo>
                <a:lnTo>
                  <a:pt x="87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9120" y="287172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3900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7760" y="317484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5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4880" y="3817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44680" y="32986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05600" y="294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120" y="334980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105440" y="3295440"/>
            <a:ext cx="1962000" cy="2761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124160" y="2990880"/>
            <a:ext cx="197172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048000" y="3019320"/>
            <a:ext cx="28440" cy="28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91120" y="32385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340524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339" y="48"/>
                </a:moveTo>
                <a:lnTo>
                  <a:pt x="0" y="93"/>
                </a:lnTo>
                <a:lnTo>
                  <a:pt x="321" y="0"/>
                </a:lnTo>
                <a:lnTo>
                  <a:pt x="339" y="4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519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H="1" flipV="1">
            <a:off x="4990680" y="2095200"/>
            <a:ext cx="1095480" cy="904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086520" y="2857320"/>
            <a:ext cx="533520" cy="1234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86520" y="2495520"/>
            <a:ext cx="9360" cy="504720"/>
          </a:xfrm>
          <a:custGeom>
            <a:avLst/>
            <a:gdLst/>
            <a:ahLst/>
            <a:rect l="l" t="t" r="r" b="b"/>
            <a:pathLst>
              <a:path w="6" h="318">
                <a:moveTo>
                  <a:pt x="0" y="318"/>
                </a:moveTo>
                <a:lnTo>
                  <a:pt x="6" y="0"/>
                </a:lnTo>
              </a:path>
            </a:pathLst>
          </a:custGeom>
          <a:noFill/>
          <a:ln w="1908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15160" y="3019320"/>
            <a:ext cx="137880" cy="95400"/>
          </a:xfrm>
          <a:custGeom>
            <a:avLst/>
            <a:gdLst/>
            <a:ahLst/>
            <a:rect l="l" t="t" r="r" b="b"/>
            <a:pathLst>
              <a:path w="87" h="60">
                <a:moveTo>
                  <a:pt x="87" y="0"/>
                </a:moveTo>
                <a:lnTo>
                  <a:pt x="0" y="24"/>
                </a:lnTo>
                <a:lnTo>
                  <a:pt x="36" y="48"/>
                </a:lnTo>
                <a:lnTo>
                  <a:pt x="84" y="60"/>
                </a:lnTo>
                <a:lnTo>
                  <a:pt x="87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900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649120" y="287172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7760" y="317484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5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4880" y="3817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44680" y="32986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05600" y="294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1120" y="334980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2209680" y="3533760"/>
            <a:ext cx="1905120" cy="5810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57760" y="3114720"/>
            <a:ext cx="23796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743200" y="3533400"/>
            <a:ext cx="1362240" cy="1390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105440" y="3295440"/>
            <a:ext cx="1962000" cy="2761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124160" y="2990880"/>
            <a:ext cx="197172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19440" y="3419640"/>
            <a:ext cx="2247840" cy="13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048000" y="3019320"/>
            <a:ext cx="28440" cy="285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91120" y="32385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105440" y="2505240"/>
            <a:ext cx="1942920" cy="104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4800" y="340524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339" y="48"/>
                </a:moveTo>
                <a:lnTo>
                  <a:pt x="0" y="93"/>
                </a:lnTo>
                <a:lnTo>
                  <a:pt x="321" y="0"/>
                </a:lnTo>
                <a:lnTo>
                  <a:pt x="339" y="4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555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 flipH="1" flipV="1">
            <a:off x="4990680" y="2095200"/>
            <a:ext cx="1095480" cy="904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086520" y="2857320"/>
            <a:ext cx="533520" cy="1234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86520" y="2495520"/>
            <a:ext cx="9360" cy="504720"/>
          </a:xfrm>
          <a:custGeom>
            <a:avLst/>
            <a:gdLst/>
            <a:ahLst/>
            <a:rect l="l" t="t" r="r" b="b"/>
            <a:pathLst>
              <a:path w="6" h="318">
                <a:moveTo>
                  <a:pt x="0" y="318"/>
                </a:moveTo>
                <a:lnTo>
                  <a:pt x="6" y="0"/>
                </a:lnTo>
              </a:path>
            </a:pathLst>
          </a:custGeom>
          <a:noFill/>
          <a:ln w="1908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52960" y="2830680"/>
            <a:ext cx="285840" cy="112680"/>
          </a:xfrm>
          <a:custGeom>
            <a:avLst/>
            <a:gdLst/>
            <a:ahLst/>
            <a:rect l="l" t="t" r="r" b="b"/>
            <a:pathLst>
              <a:path w="180" h="71">
                <a:moveTo>
                  <a:pt x="0" y="29"/>
                </a:moveTo>
                <a:cubicBezTo>
                  <a:pt x="7" y="18"/>
                  <a:pt x="15" y="8"/>
                  <a:pt x="36" y="5"/>
                </a:cubicBezTo>
                <a:cubicBezTo>
                  <a:pt x="57" y="2"/>
                  <a:pt x="102" y="0"/>
                  <a:pt x="126" y="11"/>
                </a:cubicBezTo>
                <a:cubicBezTo>
                  <a:pt x="150" y="22"/>
                  <a:pt x="165" y="46"/>
                  <a:pt x="180" y="71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8200" y="2714760"/>
            <a:ext cx="247680" cy="85680"/>
          </a:xfrm>
          <a:custGeom>
            <a:avLst/>
            <a:gdLst/>
            <a:ahLst/>
            <a:rect l="l" t="t" r="r" b="b"/>
            <a:pathLst>
              <a:path w="156" h="54">
                <a:moveTo>
                  <a:pt x="0" y="54"/>
                </a:moveTo>
                <a:cubicBezTo>
                  <a:pt x="12" y="46"/>
                  <a:pt x="46" y="12"/>
                  <a:pt x="72" y="6"/>
                </a:cubicBezTo>
                <a:cubicBezTo>
                  <a:pt x="98" y="0"/>
                  <a:pt x="139" y="16"/>
                  <a:pt x="156" y="18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25040" y="258444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05640" y="2413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15160" y="3019320"/>
            <a:ext cx="137880" cy="95400"/>
          </a:xfrm>
          <a:custGeom>
            <a:avLst/>
            <a:gdLst/>
            <a:ahLst/>
            <a:rect l="l" t="t" r="r" b="b"/>
            <a:pathLst>
              <a:path w="87" h="60">
                <a:moveTo>
                  <a:pt x="87" y="0"/>
                </a:moveTo>
                <a:lnTo>
                  <a:pt x="0" y="24"/>
                </a:lnTo>
                <a:lnTo>
                  <a:pt x="36" y="48"/>
                </a:lnTo>
                <a:lnTo>
                  <a:pt x="84" y="60"/>
                </a:lnTo>
                <a:lnTo>
                  <a:pt x="87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3900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49120" y="2871720"/>
            <a:ext cx="321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7760" y="317484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15080" y="3003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34880" y="3817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44680" y="32986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05600" y="2943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1120" y="3349800"/>
            <a:ext cx="30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16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743040" y="4838760"/>
            <a:ext cx="7772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known and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 is precisely measured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sured or obtained from azimuth differences.  They might be graphicaly measured.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btained from coordinate diff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servation Out of Centre at Target Control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232000" y="1819440"/>
                <a:ext cx="511020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≃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ρ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4003560" y="4062240"/>
                <a:ext cx="14464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1600" y="2440080"/>
            <a:ext cx="8686800" cy="134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trol Station Observed Out of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95120" y="2436840"/>
          <a:ext cx="8729640" cy="13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2436840"/>
                    <a:ext cx="872964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ance Measurement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odetic Control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ale of the Geodetic Control Networks are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tances are not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stance measurements must be as </a:t>
            </a:r>
            <a:r>
              <a:rPr b="0" lang="en-AU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ccurat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s direction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n trilateration is considered diagonals should be measured for excessive measu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31880" y="7012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inst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417680"/>
            <a:ext cx="77724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±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c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c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and S = 3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± 8.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S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*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00000/636620 *8.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± 4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44880" y="20667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14640" y="2975040"/>
            <a:ext cx="1552680" cy="1611360"/>
          </a:xfrm>
          <a:custGeom>
            <a:avLst/>
            <a:gdLst/>
            <a:ahLst/>
            <a:rect l="l" t="t" r="r" b="b"/>
            <a:pathLst>
              <a:path w="978" h="1015">
                <a:moveTo>
                  <a:pt x="786" y="0"/>
                </a:moveTo>
                <a:lnTo>
                  <a:pt x="0" y="985"/>
                </a:lnTo>
                <a:lnTo>
                  <a:pt x="978" y="1015"/>
                </a:lnTo>
                <a:lnTo>
                  <a:pt x="786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8645600">
            <a:off x="4080960" y="332136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=3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20728800">
            <a:off x="4215240" y="3980520"/>
            <a:ext cx="517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03640" y="4303800"/>
            <a:ext cx="158760" cy="247680"/>
          </a:xfrm>
          <a:custGeom>
            <a:avLst/>
            <a:gdLst/>
            <a:ahLst/>
            <a:rect l="l" t="t" r="r" b="b"/>
            <a:pathLst>
              <a:path w="100" h="163">
                <a:moveTo>
                  <a:pt x="0" y="0"/>
                </a:moveTo>
                <a:cubicBezTo>
                  <a:pt x="39" y="23"/>
                  <a:pt x="78" y="47"/>
                  <a:pt x="89" y="74"/>
                </a:cubicBezTo>
                <a:cubicBezTo>
                  <a:pt x="100" y="101"/>
                  <a:pt x="83" y="132"/>
                  <a:pt x="67" y="16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-7920" y="-14400"/>
            <a:ext cx="9136080" cy="68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irection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djustment of Observations At A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xi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rrors of Theodo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atur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ersonal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mmon Mista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ccentric Measurements for Direction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ductions for Distance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ositioning with Inter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ositioning with Resection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3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4480" y="270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s for Distance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00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03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11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905120" y="771480"/>
            <a:ext cx="4724280" cy="981000"/>
          </a:xfrm>
          <a:custGeom>
            <a:avLst/>
            <a:gdLst/>
            <a:ahLst/>
            <a:rect l="l" t="t" r="r" b="b"/>
            <a:pathLst>
              <a:path w="2976" h="618">
                <a:moveTo>
                  <a:pt x="0" y="6"/>
                </a:moveTo>
                <a:cubicBezTo>
                  <a:pt x="257" y="23"/>
                  <a:pt x="1046" y="0"/>
                  <a:pt x="1542" y="102"/>
                </a:cubicBezTo>
                <a:cubicBezTo>
                  <a:pt x="2038" y="204"/>
                  <a:pt x="2677" y="511"/>
                  <a:pt x="2976" y="61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17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152960" y="57168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25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905120" y="771480"/>
            <a:ext cx="4724280" cy="981000"/>
          </a:xfrm>
          <a:custGeom>
            <a:avLst/>
            <a:gdLst/>
            <a:ahLst/>
            <a:rect l="l" t="t" r="r" b="b"/>
            <a:pathLst>
              <a:path w="2976" h="618">
                <a:moveTo>
                  <a:pt x="0" y="6"/>
                </a:moveTo>
                <a:cubicBezTo>
                  <a:pt x="257" y="23"/>
                  <a:pt x="1046" y="0"/>
                  <a:pt x="1542" y="102"/>
                </a:cubicBezTo>
                <a:cubicBezTo>
                  <a:pt x="2038" y="204"/>
                  <a:pt x="2677" y="511"/>
                  <a:pt x="2976" y="61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31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914480" y="790560"/>
            <a:ext cx="4724280" cy="9525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2960" y="57168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90960" y="885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40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05120" y="771480"/>
            <a:ext cx="4724280" cy="981000"/>
          </a:xfrm>
          <a:custGeom>
            <a:avLst/>
            <a:gdLst/>
            <a:ahLst/>
            <a:rect l="l" t="t" r="r" b="b"/>
            <a:pathLst>
              <a:path w="2976" h="618">
                <a:moveTo>
                  <a:pt x="0" y="6"/>
                </a:moveTo>
                <a:cubicBezTo>
                  <a:pt x="257" y="23"/>
                  <a:pt x="1046" y="0"/>
                  <a:pt x="1542" y="102"/>
                </a:cubicBezTo>
                <a:cubicBezTo>
                  <a:pt x="2038" y="204"/>
                  <a:pt x="2677" y="511"/>
                  <a:pt x="2976" y="61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46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1914480" y="790560"/>
            <a:ext cx="4724280" cy="9525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52960" y="57168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90960" y="885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90800" y="1542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14640" y="1952640"/>
            <a:ext cx="44575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57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905120" y="771480"/>
            <a:ext cx="4724280" cy="981000"/>
          </a:xfrm>
          <a:custGeom>
            <a:avLst/>
            <a:gdLst/>
            <a:ahLst/>
            <a:rect l="l" t="t" r="r" b="b"/>
            <a:pathLst>
              <a:path w="2976" h="618">
                <a:moveTo>
                  <a:pt x="0" y="6"/>
                </a:moveTo>
                <a:cubicBezTo>
                  <a:pt x="257" y="23"/>
                  <a:pt x="1046" y="0"/>
                  <a:pt x="1542" y="102"/>
                </a:cubicBezTo>
                <a:cubicBezTo>
                  <a:pt x="2038" y="204"/>
                  <a:pt x="2677" y="511"/>
                  <a:pt x="2976" y="61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63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914480" y="790560"/>
            <a:ext cx="4724280" cy="9525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2960" y="57168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90960" y="885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90800" y="1542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38640" y="234324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7560" y="2751120"/>
            <a:ext cx="4000320" cy="230040"/>
          </a:xfrm>
          <a:custGeom>
            <a:avLst/>
            <a:gdLst/>
            <a:ahLst/>
            <a:rect l="l" t="t" r="r" b="b"/>
            <a:pathLst>
              <a:path w="2520" h="145">
                <a:moveTo>
                  <a:pt x="0" y="145"/>
                </a:moveTo>
                <a:cubicBezTo>
                  <a:pt x="222" y="121"/>
                  <a:pt x="912" y="2"/>
                  <a:pt x="1332" y="1"/>
                </a:cubicBezTo>
                <a:cubicBezTo>
                  <a:pt x="1752" y="0"/>
                  <a:pt x="2273" y="110"/>
                  <a:pt x="2520" y="139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14640" y="1952640"/>
            <a:ext cx="44575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85640" y="2733840"/>
            <a:ext cx="7801200" cy="685800"/>
          </a:xfrm>
          <a:custGeom>
            <a:avLst/>
            <a:gdLst/>
            <a:ahLst/>
            <a:rect l="l" t="t" r="r" b="b"/>
            <a:pathLst>
              <a:path w="4914" h="432">
                <a:moveTo>
                  <a:pt x="0" y="360"/>
                </a:moveTo>
                <a:cubicBezTo>
                  <a:pt x="417" y="302"/>
                  <a:pt x="1683" y="0"/>
                  <a:pt x="2502" y="12"/>
                </a:cubicBezTo>
                <a:cubicBezTo>
                  <a:pt x="3321" y="24"/>
                  <a:pt x="4412" y="344"/>
                  <a:pt x="4914" y="432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544080" y="1695600"/>
            <a:ext cx="150840" cy="253080"/>
            <a:chOff x="6544080" y="1695600"/>
            <a:chExt cx="150840" cy="253080"/>
          </a:xfrm>
        </p:grpSpPr>
        <p:sp>
          <p:nvSpPr>
            <p:cNvPr id="676" name=""/>
            <p:cNvSpPr/>
            <p:nvPr/>
          </p:nvSpPr>
          <p:spPr>
            <a:xfrm rot="1186200">
              <a:off x="6571440" y="1764720"/>
              <a:ext cx="74880" cy="176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186200">
              <a:off x="6608160" y="170604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905120" y="771480"/>
            <a:ext cx="4724280" cy="981000"/>
          </a:xfrm>
          <a:custGeom>
            <a:avLst/>
            <a:gdLst/>
            <a:ahLst/>
            <a:rect l="l" t="t" r="r" b="b"/>
            <a:pathLst>
              <a:path w="2976" h="618">
                <a:moveTo>
                  <a:pt x="0" y="6"/>
                </a:moveTo>
                <a:cubicBezTo>
                  <a:pt x="257" y="23"/>
                  <a:pt x="1046" y="0"/>
                  <a:pt x="1542" y="102"/>
                </a:cubicBezTo>
                <a:cubicBezTo>
                  <a:pt x="2038" y="204"/>
                  <a:pt x="2677" y="511"/>
                  <a:pt x="2976" y="61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466960" y="1962000"/>
            <a:ext cx="1104840" cy="347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43280" y="1047600"/>
            <a:ext cx="704520" cy="450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830240" y="713880"/>
            <a:ext cx="153360" cy="339120"/>
            <a:chOff x="1830240" y="713880"/>
            <a:chExt cx="153360" cy="339120"/>
          </a:xfrm>
        </p:grpSpPr>
        <p:sp>
          <p:nvSpPr>
            <p:cNvPr id="682" name=""/>
            <p:cNvSpPr/>
            <p:nvPr/>
          </p:nvSpPr>
          <p:spPr>
            <a:xfrm rot="21114000">
              <a:off x="1887480" y="814320"/>
              <a:ext cx="74520" cy="23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1114000">
              <a:off x="1836000" y="723240"/>
              <a:ext cx="141480" cy="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914480" y="790560"/>
            <a:ext cx="4724280" cy="9525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52960" y="57168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90960" y="885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939960"/>
            <a:ext cx="7648560" cy="2460600"/>
          </a:xfrm>
          <a:custGeom>
            <a:avLst/>
            <a:gdLst/>
            <a:ahLst/>
            <a:rect l="l" t="t" r="r" b="b"/>
            <a:pathLst>
              <a:path w="4818" h="1550">
                <a:moveTo>
                  <a:pt x="0" y="1466"/>
                </a:moveTo>
                <a:cubicBezTo>
                  <a:pt x="55" y="1414"/>
                  <a:pt x="198" y="1383"/>
                  <a:pt x="330" y="1154"/>
                </a:cubicBezTo>
                <a:cubicBezTo>
                  <a:pt x="462" y="925"/>
                  <a:pt x="619" y="188"/>
                  <a:pt x="791" y="94"/>
                </a:cubicBezTo>
                <a:cubicBezTo>
                  <a:pt x="963" y="0"/>
                  <a:pt x="1195" y="433"/>
                  <a:pt x="1360" y="591"/>
                </a:cubicBezTo>
                <a:cubicBezTo>
                  <a:pt x="1525" y="749"/>
                  <a:pt x="1579" y="1009"/>
                  <a:pt x="1782" y="1040"/>
                </a:cubicBezTo>
                <a:cubicBezTo>
                  <a:pt x="1985" y="1071"/>
                  <a:pt x="2330" y="783"/>
                  <a:pt x="2579" y="776"/>
                </a:cubicBezTo>
                <a:cubicBezTo>
                  <a:pt x="2828" y="769"/>
                  <a:pt x="3081" y="1018"/>
                  <a:pt x="3277" y="998"/>
                </a:cubicBezTo>
                <a:cubicBezTo>
                  <a:pt x="3472" y="978"/>
                  <a:pt x="3616" y="649"/>
                  <a:pt x="3753" y="657"/>
                </a:cubicBezTo>
                <a:cubicBezTo>
                  <a:pt x="3890" y="665"/>
                  <a:pt x="3989" y="923"/>
                  <a:pt x="4098" y="1046"/>
                </a:cubicBezTo>
                <a:cubicBezTo>
                  <a:pt x="4207" y="1169"/>
                  <a:pt x="4290" y="1310"/>
                  <a:pt x="4410" y="1394"/>
                </a:cubicBezTo>
                <a:cubicBezTo>
                  <a:pt x="4530" y="1478"/>
                  <a:pt x="4733" y="1517"/>
                  <a:pt x="4818" y="1550"/>
                </a:cubicBezTo>
              </a:path>
            </a:pathLst>
          </a:custGeom>
          <a:noFill/>
          <a:ln w="88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06800" y="2668680"/>
            <a:ext cx="4143240" cy="1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90800" y="1542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64200" y="233676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52880" y="28353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57560" y="2751120"/>
            <a:ext cx="4000320" cy="230040"/>
          </a:xfrm>
          <a:custGeom>
            <a:avLst/>
            <a:gdLst/>
            <a:ahLst/>
            <a:rect l="l" t="t" r="r" b="b"/>
            <a:pathLst>
              <a:path w="2520" h="145">
                <a:moveTo>
                  <a:pt x="0" y="145"/>
                </a:moveTo>
                <a:cubicBezTo>
                  <a:pt x="222" y="121"/>
                  <a:pt x="912" y="2"/>
                  <a:pt x="1332" y="1"/>
                </a:cubicBezTo>
                <a:cubicBezTo>
                  <a:pt x="1752" y="0"/>
                  <a:pt x="2273" y="110"/>
                  <a:pt x="2520" y="139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14640" y="1952640"/>
            <a:ext cx="44575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590400">
            <a:off x="7438680" y="33048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15520" y="4979520"/>
            <a:ext cx="8628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ve a nice week to you al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2978280" y="18414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8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rection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8640" y="283356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servation out of centre at control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servation out of centre at target control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th conditions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bservation out of centre at control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72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3285720"/>
            <a:ext cx="1648080" cy="523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28760" y="3800160"/>
            <a:ext cx="2247840" cy="314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86320" y="2495520"/>
            <a:ext cx="1542960" cy="13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762280" y="3800520"/>
            <a:ext cx="1724040" cy="111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19440" y="3429000"/>
            <a:ext cx="2657160" cy="390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57400" y="3114360"/>
            <a:ext cx="618840" cy="685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92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109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360" y="833400"/>
            <a:ext cx="8963280" cy="5191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3733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14640" y="3486240"/>
            <a:ext cx="380880" cy="495000"/>
            <a:chOff x="3914640" y="3486240"/>
            <a:chExt cx="380880" cy="495000"/>
          </a:xfrm>
        </p:grpSpPr>
        <p:sp>
          <p:nvSpPr>
            <p:cNvPr id="117" name=""/>
            <p:cNvSpPr/>
            <p:nvPr/>
          </p:nvSpPr>
          <p:spPr>
            <a:xfrm flipH="1">
              <a:off x="3914640" y="3620520"/>
              <a:ext cx="169200" cy="236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3840" y="3620520"/>
              <a:ext cx="211680" cy="2584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83840" y="3620520"/>
              <a:ext cx="0" cy="360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93120" y="3535200"/>
              <a:ext cx="193320" cy="30240"/>
            </a:xfrm>
            <a:prstGeom prst="rect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53600" y="348624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20080" y="309564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9080" y="399096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6600" y="4838760"/>
            <a:ext cx="16200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038480"/>
            <a:ext cx="161640" cy="123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362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90800" y="3038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20040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62680" y="2428920"/>
            <a:ext cx="123840" cy="104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05240" y="3753000"/>
            <a:ext cx="380880" cy="494640"/>
            <a:chOff x="4305240" y="3753000"/>
            <a:chExt cx="380880" cy="494640"/>
          </a:xfrm>
        </p:grpSpPr>
        <p:sp>
          <p:nvSpPr>
            <p:cNvPr id="131" name=""/>
            <p:cNvSpPr/>
            <p:nvPr/>
          </p:nvSpPr>
          <p:spPr>
            <a:xfrm flipH="1">
              <a:off x="4305240" y="3887280"/>
              <a:ext cx="169200" cy="2365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74440" y="3887280"/>
              <a:ext cx="211680" cy="25812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74440" y="3887280"/>
              <a:ext cx="0" cy="360360"/>
            </a:xfrm>
            <a:prstGeom prst="line">
              <a:avLst/>
            </a:prstGeom>
            <a:ln cap="rnd" w="19080">
              <a:solidFill>
                <a:srgbClr val="ffff00"/>
              </a:solidFill>
              <a:custDash>
                <a:ds d="100000" sp="1000"/>
              </a:custDash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3720" y="3801960"/>
              <a:ext cx="193320" cy="30240"/>
            </a:xfrm>
            <a:prstGeom prst="rect">
              <a:avLst/>
            </a:pr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4200" y="3753000"/>
              <a:ext cx="78480" cy="134280"/>
            </a:xfrm>
            <a:custGeom>
              <a:avLst/>
              <a:gdLst>
                <a:gd name="textAreaLeft" fmla="*/ 3600 w 78480"/>
                <a:gd name="textAreaRight" fmla="*/ 74880 w 78480"/>
                <a:gd name="textAreaTop" fmla="*/ 3600 h 134280"/>
                <a:gd name="textAreaBottom" fmla="*/ 130680 h 134280"/>
              </a:gdLst>
              <a:ahLst/>
              <a:rect l="textAreaLeft" t="textAreaTop" r="textAreaRight" b="textAreaBottom"/>
              <a:pathLst>
                <a:path w="21600" h="36888">
                  <a:moveTo>
                    <a:pt x="3600" y="0"/>
                  </a:moveTo>
                  <a:arcTo wR="3600" hR="3600" stAng="16200000" swAng="-5400000"/>
                  <a:lnTo>
                    <a:pt x="0" y="33288"/>
                  </a:lnTo>
                  <a:arcTo wR="3600" hR="3600" stAng="10800000" swAng="-5400000"/>
                  <a:lnTo>
                    <a:pt x="18000" y="368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7:53Z</dcterms:created>
  <dc:creator>Rahmi Nurhan CELIK</dc:creator>
  <dc:description/>
  <dc:language>en-US</dc:language>
  <cp:lastModifiedBy>bim</cp:lastModifiedBy>
  <dcterms:modified xsi:type="dcterms:W3CDTF">2007-03-05T05:01:56Z</dcterms:modified>
  <cp:revision>14</cp:revision>
  <dc:subject/>
  <dc:title>Distance Measurements for  Geodetic Control Networks</dc:title>
</cp:coreProperties>
</file>