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FF0-107C-455E-92D4-4D329570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9BA-7FB1-400E-8FC5-333B3EE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C2F-5CE5-4D08-87FC-0A9F1139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0E9-AD5B-4F25-B8DB-DFA06162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DB2-BE90-478D-A86F-69D21819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973-19BC-492A-AF60-1331C95B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593-E6F6-4863-BB41-A52615D7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998-FA2E-496D-BDC4-6800603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92A-B1DB-4C84-AFE4-91E88963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5AB-4904-4C4F-BF2B-5352F6A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8CF-845C-43DF-BA0E-B27D689A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417-DC5E-4EE8-BD27-662C90E0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0378-845F-4324-92EF-8E71C9C76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GND-Week002.ppt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GND-Week002.ppt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GND-Week002.ppt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Ske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2120" y="1295280"/>
            <a:ext cx="5962680" cy="784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8462880"/>
            <a:ext cx="701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58294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ion Description Ske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077840"/>
            <a:ext cx="5392800" cy="806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8462880"/>
            <a:ext cx="701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llar Mon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227240"/>
            <a:ext cx="5478480" cy="79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58291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nd Mon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15448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58291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nd Mon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619452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58291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pper Ground Mon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185840"/>
            <a:ext cx="5259600" cy="795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8462880"/>
            <a:ext cx="701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12:30:27Z</dcterms:created>
  <dc:creator>Mustafa Tanışık</dc:creator>
  <dc:description/>
  <dc:language>en-US</dc:language>
  <cp:lastModifiedBy>bim</cp:lastModifiedBy>
  <dcterms:modified xsi:type="dcterms:W3CDTF">2007-03-04T11:26:06Z</dcterms:modified>
  <cp:revision>13</cp:revision>
  <dc:subject/>
  <dc:title>GEODETIC NETWORK DESIGN</dc:title>
</cp:coreProperties>
</file>